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2BF9-D056-493A-8EE6-981C7D0B21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7A9E-61AD-40FA-8D8E-4C40078C8955}" type="slidenum">
              <a:rPr b="0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1C91-2AB6-46C3-B9BA-7ED8BF97F331}" type="slidenum">
              <a:rPr b="0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9022-4781-4B84-A6CB-231D3890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1EA7-A558-4093-BC43-8B1A3354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443F2-A1E3-467C-8D60-EF705A69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DBCCD-B5B5-4E8B-9909-8C3442C0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3B579-3844-4338-B2D1-628A9EC3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DBE0E-6D9D-464A-9B7F-C31BD2DE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66077-67AE-40EB-A0D0-2CD840E6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3FAD2-2C1A-46F9-AC56-4A536A59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9785E-202B-4445-BA82-BEEBF128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3CB24-3E97-4D39-B3C6-F44720D9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5FE86-042B-4EB2-A4DF-442C6CE9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E7FB6-BF81-4AD7-9E14-BE351E8B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DD69-FECE-431A-8912-C69BB3B0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F3FF9-7D38-4D47-87AC-8B977380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CE47A-6DFC-4F31-8548-D5AA4EAC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BC47E-8013-4EC7-BD9B-06A97CFA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022BE-1987-473C-8082-AE033B3C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E8775-9778-4481-95DC-55BE8FAF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611FA-D283-41F5-A29E-54C9D380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E6C65-B758-4495-920D-DDE47BF7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4E377-7C19-46B9-B6DA-D326D894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0F276-5D7F-407E-9889-C9F043F3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EEC82-D0E3-4F0B-AFE7-2E7C52F6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BE15-6B23-4797-8590-8A0EDCCF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D2ADC-53CF-41CB-9E73-28467287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9CAFD-E7FB-4B26-8084-80A7209A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82010-2E6D-4AAD-BBD9-CE448190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77599-ADF1-4C5E-A35B-4D57CDDF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504E1-E166-45A6-A2EA-E18AFEF9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97702-3442-4658-BBC0-3DAEF219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F99DB-7678-42EE-A1C6-A650AF08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28C67-3DF5-4B88-83AB-F7F7B30B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68059-608E-480E-ADDA-6A774C6C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16099-F412-4487-B794-3A32D62B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721D-E3AC-4E3E-8B22-E970B984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33B71-07C3-4F7F-A059-F9B6732A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EB865-E771-44B8-B242-C81589EA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7D0EF-BDDA-4EEA-A445-908C7FAA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80908-BEA1-4DAC-98CE-BB9AD63F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55B24-1EDB-485C-A17F-9A389B95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BED1C-400C-417A-9D07-A700DAFE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D425C-4511-4773-9D72-1C6632AD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4B165-D500-4C85-9FEE-DC769BA6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64975-67D8-43A6-AFAD-57A49AE0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01F12-5136-48E2-9532-0A88411F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68EC-C777-41B9-B7F5-005EF4A2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38C63-D250-4BDA-B864-913D8BF7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31F7F-49AA-4D86-AC91-18C786D5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55FEE-C3FC-490D-898C-C1336E4C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7A4FC-38EF-463C-882A-9DD31C09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DFFF2-8B08-4613-9534-A25F78B6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93B2-706E-4A23-BAF2-16CF4135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05C8-815B-4B9E-AD8C-25F90D5B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D5E1-B35C-44FC-8904-DE6E006D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0D91-2050-4847-991E-9B5BCF0D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2C2F-D80B-459E-9DA6-0D6D1BA9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A853-A270-4CE8-AFAC-27AD4A90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E17D-2F2A-4487-A6C1-0B11EDE1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0E2A-86F0-4A5D-B8F1-3E8CBC9E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5405-2AD9-4A37-B5B4-02A0AAB4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2A1D-98AB-4A67-BEC4-DAC0AE22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236B-7701-4C35-A252-EA343E02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31B40-FC47-42EF-B72F-80CFA106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DAFEF-D8F3-42BF-B82B-AD2BF586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FC4EC-F898-4D05-9F99-4E4F4EB1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AD6CF-93DC-4951-9BFC-90500DD9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40A6F-56A9-40F5-B202-AF569D47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D98F-7955-4125-95DB-38452ADC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F89AA-43F0-43BB-9A41-58F49E41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F3C4B-44D3-43C5-BFA7-3E94EFCA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A37C9-4405-4D85-A77D-A5716881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98E76-FA4F-4009-BC8F-872FF6D8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94D9F-ECA4-463A-B8A2-FA716C1E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7C0BF-A84C-4C80-9C59-4EE1B20E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8AC0C-B0D3-400D-9CFB-EEA9701F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5C748-282D-4A64-B4C8-126E2260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95C69-8DB1-4695-B4FB-CC066A7C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769FD-9CE7-437C-B43E-9ED2E0AC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4F6F-0F0D-4011-A5A8-591F20F7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9AC76-DB35-4A2C-8618-74550212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5DBDA-70A6-49A8-9C45-3FE4A355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69588-D2C9-4671-AFD1-627CFB38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B6EB1-B832-4F4F-83FD-EDE7B327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03ED3-6F10-4125-ACD4-C6305B0C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C75F5-F900-44AF-B85A-B61569A9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F2559-5D0C-45AC-B656-937C7FF4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67A36-6A99-4447-9B19-7CF150A8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0450A-539C-4F82-969E-1CF7F72F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A3767-6CA4-4B92-AE51-B55B66EE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36A2-86C1-4D66-B2BB-892956E6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64217-95F9-4FA7-B697-EF1E5A8B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55044-1BC9-48C7-956B-9CD25E11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55022-23BA-49C2-893B-3820F41A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9A027-B21E-4D35-B84C-2AD94066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C377F-FF53-439D-BEDE-F3A92187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B03FF-6E88-4F88-AB6C-79B4167B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447CD-C512-49EE-B936-79D6463E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801B5-E68C-4274-BA1D-FD4AEDFD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1C8A1-3BAA-4B25-9D68-4D151097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EB4DE-A6D3-4523-976A-06AE65F3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3104-9310-4165-AF83-687CE254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4AD88-DD03-4590-BA73-4BCC9671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D3613-C403-4179-BEDE-5EBC0A3F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4178D-6B41-4475-9377-EA4753CF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1044B-C5D9-49E6-8535-B86878A9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31704-F27C-4DD8-8C2B-A4FD30F0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E6941-BFC9-4415-A18A-8A3FD0F9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C10B5-B85D-4895-ADF3-3131DC38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D6C96-C11F-4046-BC2B-E0A4CDFE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3286C-C5FD-490E-9CF2-3DBA2F64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8F352-BA9A-4DDA-A77D-9657EB20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C35-623D-4F6F-9DAE-A9AE5C62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9C787-18DA-46A9-B0D8-A122C3FD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923B1-2F85-4F04-8F0E-7E3ABB2D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B41AA-E81A-4D79-ACE2-A3D50369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4736F-5AC8-4D79-A212-DC88CDFE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492EA-52DC-4536-A888-BCF4FC92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443D9-3EAF-42BD-8A30-989A5DB5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8BB0F-9315-4A9E-A297-DEA1B744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6177E-0C11-4B74-909A-24E5489A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DF6D6-AC6D-41B6-AC59-460440AF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4F5AF-BC49-4144-8403-1845AD33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DCC2-39B1-463F-846A-A19EA3BE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8BAA9-7105-4EAD-AB08-A61B5664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A0D2C-DAD1-4D09-8D85-5ADCD5AB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07A03-2BF5-448D-8D49-40358654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F3775-2443-4C6B-B699-DEA98579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326F0-50FB-409C-9EE8-EAC4188F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A50FA-78E2-48BB-9382-D8862825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D49B9-5C89-460D-8E0D-8F599349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18339-4398-494A-ABB0-5D46FF78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11277-E391-42E3-8CAC-673719A4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CBB98-806E-4598-B9E7-099B5DEA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2ADE-B4C0-43DB-ADDF-33E86D37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B8894-E6BF-4E7F-81DB-700C82FB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0090C-43E3-4F59-A498-84D6182D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C54B8-231F-4478-9CF5-5F16E37F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04013-4BCA-4891-9A32-12E17467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52770-C140-462D-94F4-B0610B19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1316A-C68D-4120-91F8-7CF8520D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49D79-7781-4BAF-9F8C-09021E88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F5EEC-F594-444C-A539-BCD8AF0C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4AF45-3D5E-4E02-BD96-DEAA43F2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0DA8F-C829-4459-9AC6-A5827059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095520"/>
            <a:ext cx="1523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120" y="6095520"/>
            <a:ext cx="3124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2440" y="53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1FFE-C6D4-4ED1-985E-6944DCB31C4B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Rounded Rectangle 14"/>
          <p:cNvSpPr/>
          <p:nvPr/>
        </p:nvSpPr>
        <p:spPr>
          <a:xfrm rot="900000">
            <a:off x="-533160" y="-979560"/>
            <a:ext cx="6672240" cy="6821640"/>
          </a:xfrm>
          <a:custGeom>
            <a:avLst/>
            <a:gdLst/>
            <a:ahLst/>
            <a:rect l="l" t="t" r="r" b="b"/>
            <a:pathLst>
              <a:path w="6672870" h="6821601">
                <a:moveTo>
                  <a:pt x="0" y="1787990"/>
                </a:moveTo>
                <a:lnTo>
                  <a:pt x="6672870" y="0"/>
                </a:lnTo>
                <a:lnTo>
                  <a:pt x="6672870" y="6739511"/>
                </a:lnTo>
                <a:cubicBezTo>
                  <a:pt x="6672870" y="6784848"/>
                  <a:pt x="6636117" y="6821601"/>
                  <a:pt x="6590780" y="6821601"/>
                </a:cubicBezTo>
                <a:lnTo>
                  <a:pt x="1348753" y="6821601"/>
                </a:lnTo>
                <a:lnTo>
                  <a:pt x="0" y="178799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2" name="Rounded Rectangle 15"/>
          <p:cNvSpPr/>
          <p:nvPr/>
        </p:nvSpPr>
        <p:spPr>
          <a:xfrm rot="900000">
            <a:off x="-283680" y="5968800"/>
            <a:ext cx="5300640" cy="1496880"/>
          </a:xfrm>
          <a:custGeom>
            <a:avLst/>
            <a:gdLst/>
            <a:ahLst/>
            <a:rect l="l" t="t" r="r" b="b"/>
            <a:pathLst>
              <a:path w="5300494" h="1495954">
                <a:moveTo>
                  <a:pt x="0" y="0"/>
                </a:moveTo>
                <a:lnTo>
                  <a:pt x="5218404" y="0"/>
                </a:lnTo>
                <a:cubicBezTo>
                  <a:pt x="5263741" y="0"/>
                  <a:pt x="5300494" y="36753"/>
                  <a:pt x="5300494" y="82090"/>
                </a:cubicBezTo>
                <a:lnTo>
                  <a:pt x="5300494" y="183095"/>
                </a:lnTo>
                <a:lnTo>
                  <a:pt x="400840" y="1495954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3" name="Rounded Rectangle 16"/>
          <p:cNvSpPr/>
          <p:nvPr/>
        </p:nvSpPr>
        <p:spPr>
          <a:xfrm rot="900000">
            <a:off x="6931080" y="-242640"/>
            <a:ext cx="2433600" cy="1384560"/>
          </a:xfrm>
          <a:custGeom>
            <a:avLst/>
            <a:gdLst/>
            <a:ahLst/>
            <a:rect l="l" t="t" r="r" b="b"/>
            <a:pathLst>
              <a:path w="2434235" h="1383623">
                <a:moveTo>
                  <a:pt x="0" y="552912"/>
                </a:moveTo>
                <a:lnTo>
                  <a:pt x="2063495" y="0"/>
                </a:lnTo>
                <a:lnTo>
                  <a:pt x="2434235" y="1383623"/>
                </a:lnTo>
                <a:lnTo>
                  <a:pt x="82090" y="1383622"/>
                </a:lnTo>
                <a:cubicBezTo>
                  <a:pt x="36754" y="1383622"/>
                  <a:pt x="0" y="1346869"/>
                  <a:pt x="0" y="1301533"/>
                </a:cubicBezTo>
                <a:lnTo>
                  <a:pt x="0" y="552912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4" name="Rounded Rectangle 17"/>
          <p:cNvSpPr/>
          <p:nvPr/>
        </p:nvSpPr>
        <p:spPr>
          <a:xfrm rot="900000">
            <a:off x="5899320" y="1282680"/>
            <a:ext cx="3843000" cy="6178680"/>
          </a:xfrm>
          <a:custGeom>
            <a:avLst/>
            <a:gdLst/>
            <a:ahLst/>
            <a:rect l="l" t="t" r="r" b="b"/>
            <a:pathLst>
              <a:path w="3842742" h="617845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463128" y="0"/>
                </a:lnTo>
                <a:lnTo>
                  <a:pt x="3842742" y="5148790"/>
                </a:lnTo>
                <a:lnTo>
                  <a:pt x="0" y="6178450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 rot="900000">
            <a:off x="6992280" y="5713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 rot="900000">
            <a:off x="647280" y="5161680"/>
            <a:ext cx="2976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 rot="900000">
            <a:off x="7046640" y="390600"/>
            <a:ext cx="196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1675-934B-4028-9FE4-8245132C805E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le 11"/>
          <p:cNvSpPr/>
          <p:nvPr/>
        </p:nvSpPr>
        <p:spPr>
          <a:xfrm rot="20707200">
            <a:off x="-894960" y="-766800"/>
            <a:ext cx="8332920" cy="5894280"/>
          </a:xfrm>
          <a:custGeom>
            <a:avLst/>
            <a:gdLst/>
            <a:ahLst/>
            <a:rect l="l" t="t" r="r" b="b"/>
            <a:pathLst>
              <a:path w="8332816" h="5894380">
                <a:moveTo>
                  <a:pt x="1565164" y="0"/>
                </a:moveTo>
                <a:lnTo>
                  <a:pt x="8332816" y="1797049"/>
                </a:lnTo>
                <a:lnTo>
                  <a:pt x="8332816" y="5812290"/>
                </a:lnTo>
                <a:cubicBezTo>
                  <a:pt x="8332816" y="5857627"/>
                  <a:pt x="8296063" y="5894380"/>
                  <a:pt x="8250726" y="5894380"/>
                </a:cubicBezTo>
                <a:lnTo>
                  <a:pt x="0" y="5894380"/>
                </a:lnTo>
                <a:lnTo>
                  <a:pt x="1565164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8" name="Rounded Rectangle 12"/>
          <p:cNvSpPr/>
          <p:nvPr/>
        </p:nvSpPr>
        <p:spPr>
          <a:xfrm rot="20707200">
            <a:off x="65160" y="5089320"/>
            <a:ext cx="8528040" cy="2911320"/>
          </a:xfrm>
          <a:custGeom>
            <a:avLst/>
            <a:gdLst/>
            <a:ahLst/>
            <a:rect l="l" t="t" r="r" b="b"/>
            <a:pathLst>
              <a:path w="8528044" h="2911464">
                <a:moveTo>
                  <a:pt x="8477907" y="6451"/>
                </a:moveTo>
                <a:cubicBezTo>
                  <a:pt x="8507371" y="18913"/>
                  <a:pt x="8528044" y="48087"/>
                  <a:pt x="8528044" y="82090"/>
                </a:cubicBezTo>
                <a:lnTo>
                  <a:pt x="8528044" y="2911464"/>
                </a:lnTo>
                <a:lnTo>
                  <a:pt x="0" y="646970"/>
                </a:lnTo>
                <a:lnTo>
                  <a:pt x="171794" y="0"/>
                </a:lnTo>
                <a:lnTo>
                  <a:pt x="8445954" y="0"/>
                </a:lnTo>
                <a:cubicBezTo>
                  <a:pt x="8457288" y="0"/>
                  <a:pt x="8468086" y="2297"/>
                  <a:pt x="8477907" y="645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9" name="Rounded Rectangle 13"/>
          <p:cNvSpPr/>
          <p:nvPr/>
        </p:nvSpPr>
        <p:spPr>
          <a:xfrm rot="20707200">
            <a:off x="8534160" y="3839760"/>
            <a:ext cx="1011240" cy="2994120"/>
          </a:xfrm>
          <a:custGeom>
            <a:avLst/>
            <a:gdLst/>
            <a:ahLst/>
            <a:rect l="l" t="t" r="r" b="b"/>
            <a:pathLst>
              <a:path w="1011244" h="2994350">
                <a:moveTo>
                  <a:pt x="1011244" y="0"/>
                </a:moveTo>
                <a:lnTo>
                  <a:pt x="216140" y="2994350"/>
                </a:lnTo>
                <a:lnTo>
                  <a:pt x="0" y="2936957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011244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0" name="Rounded Rectangle 14"/>
          <p:cNvSpPr/>
          <p:nvPr/>
        </p:nvSpPr>
        <p:spPr>
          <a:xfrm rot="20707200">
            <a:off x="7587720" y="-321840"/>
            <a:ext cx="1976760" cy="4073400"/>
          </a:xfrm>
          <a:custGeom>
            <a:avLst/>
            <a:gdLst/>
            <a:ahLst/>
            <a:rect l="l" t="t" r="r" b="b"/>
            <a:pathLst>
              <a:path w="1976541" h="4072806">
                <a:moveTo>
                  <a:pt x="0" y="0"/>
                </a:moveTo>
                <a:lnTo>
                  <a:pt x="1976541" y="524841"/>
                </a:lnTo>
                <a:lnTo>
                  <a:pt x="1034432" y="4072806"/>
                </a:lnTo>
                <a:lnTo>
                  <a:pt x="82090" y="4072806"/>
                </a:lnTo>
                <a:cubicBezTo>
                  <a:pt x="36753" y="4072806"/>
                  <a:pt x="0" y="4036053"/>
                  <a:pt x="0" y="3990716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20700000">
            <a:off x="6995880" y="62384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20700000">
            <a:off x="5320800" y="609444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 rot="20700000">
            <a:off x="8182080" y="3246480"/>
            <a:ext cx="90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F059-7F76-4B76-BBF8-17B3D0099C43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ounded Rectangle 11"/>
          <p:cNvSpPr/>
          <p:nvPr/>
        </p:nvSpPr>
        <p:spPr>
          <a:xfrm rot="20707200">
            <a:off x="-882720" y="-625320"/>
            <a:ext cx="7440840" cy="7346880"/>
          </a:xfrm>
          <a:custGeom>
            <a:avLst/>
            <a:gdLst/>
            <a:ahLst/>
            <a:rect l="l" t="t" r="r" b="b"/>
            <a:pathLst>
              <a:path w="7440156" h="7347127">
                <a:moveTo>
                  <a:pt x="1760047" y="0"/>
                </a:moveTo>
                <a:lnTo>
                  <a:pt x="7440156" y="1508269"/>
                </a:lnTo>
                <a:lnTo>
                  <a:pt x="7440156" y="7265037"/>
                </a:lnTo>
                <a:cubicBezTo>
                  <a:pt x="7440156" y="7310374"/>
                  <a:pt x="7403403" y="7347127"/>
                  <a:pt x="7358066" y="7347127"/>
                </a:cubicBezTo>
                <a:lnTo>
                  <a:pt x="2707078" y="7347127"/>
                </a:lnTo>
                <a:lnTo>
                  <a:pt x="0" y="6628304"/>
                </a:lnTo>
                <a:lnTo>
                  <a:pt x="1760047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4" name="Rounded Rectangle 12"/>
          <p:cNvSpPr/>
          <p:nvPr/>
        </p:nvSpPr>
        <p:spPr>
          <a:xfrm rot="20707200">
            <a:off x="3227400" y="6273360"/>
            <a:ext cx="4395600" cy="1168560"/>
          </a:xfrm>
          <a:custGeom>
            <a:avLst/>
            <a:gdLst/>
            <a:ahLst/>
            <a:rect l="l" t="t" r="r" b="b"/>
            <a:pathLst>
              <a:path w="4396677" h="1167472">
                <a:moveTo>
                  <a:pt x="4346539" y="6451"/>
                </a:moveTo>
                <a:cubicBezTo>
                  <a:pt x="4376003" y="18913"/>
                  <a:pt x="4396677" y="48087"/>
                  <a:pt x="4396677" y="82090"/>
                </a:cubicBezTo>
                <a:lnTo>
                  <a:pt x="4396677" y="1167472"/>
                </a:lnTo>
                <a:lnTo>
                  <a:pt x="0" y="0"/>
                </a:lnTo>
                <a:lnTo>
                  <a:pt x="4314586" y="0"/>
                </a:lnTo>
                <a:cubicBezTo>
                  <a:pt x="4325920" y="0"/>
                  <a:pt x="4336718" y="2297"/>
                  <a:pt x="4346539" y="6451"/>
                </a:cubicBez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5" name="Rounded Rectangle 13"/>
          <p:cNvSpPr/>
          <p:nvPr/>
        </p:nvSpPr>
        <p:spPr>
          <a:xfrm rot="20707200">
            <a:off x="7659720" y="5459040"/>
            <a:ext cx="1709640" cy="1538280"/>
          </a:xfrm>
          <a:custGeom>
            <a:avLst/>
            <a:gdLst/>
            <a:ahLst/>
            <a:rect l="l" t="t" r="r" b="b"/>
            <a:pathLst>
              <a:path w="1710569" h="1538689">
                <a:moveTo>
                  <a:pt x="1710569" y="1"/>
                </a:moveTo>
                <a:lnTo>
                  <a:pt x="1301993" y="1538689"/>
                </a:lnTo>
                <a:lnTo>
                  <a:pt x="0" y="1192965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10569" y="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6" name="Rounded Rectangle 14"/>
          <p:cNvSpPr/>
          <p:nvPr/>
        </p:nvSpPr>
        <p:spPr>
          <a:xfrm rot="20707200">
            <a:off x="6665400" y="-490320"/>
            <a:ext cx="3067200" cy="5811840"/>
          </a:xfrm>
          <a:custGeom>
            <a:avLst/>
            <a:gdLst/>
            <a:ahLst/>
            <a:rect l="l" t="t" r="r" b="b"/>
            <a:pathLst>
              <a:path w="3065776" h="5811871">
                <a:moveTo>
                  <a:pt x="0" y="0"/>
                </a:moveTo>
                <a:lnTo>
                  <a:pt x="3065776" y="814071"/>
                </a:lnTo>
                <a:lnTo>
                  <a:pt x="1738684" y="5811871"/>
                </a:lnTo>
                <a:lnTo>
                  <a:pt x="82090" y="5811871"/>
                </a:lnTo>
                <a:cubicBezTo>
                  <a:pt x="36753" y="5811871"/>
                  <a:pt x="0" y="5775118"/>
                  <a:pt x="0" y="5729781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 rot="20700000">
            <a:off x="4997160" y="6187680"/>
            <a:ext cx="2381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DA32-FBB1-4A86-AE90-E73E6B6ECC83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9"/>
          <p:cNvSpPr/>
          <p:nvPr/>
        </p:nvSpPr>
        <p:spPr>
          <a:xfrm rot="20707200">
            <a:off x="-617400" y="-651960"/>
            <a:ext cx="6664320" cy="3943080"/>
          </a:xfrm>
          <a:custGeom>
            <a:avLst/>
            <a:gdLst/>
            <a:ahLst/>
            <a:rect l="l" t="t" r="r" b="b"/>
            <a:pathLst>
              <a:path w="6664606" h="3942692">
                <a:moveTo>
                  <a:pt x="1046923" y="0"/>
                </a:moveTo>
                <a:lnTo>
                  <a:pt x="6664606" y="1491692"/>
                </a:lnTo>
                <a:lnTo>
                  <a:pt x="6664606" y="3860602"/>
                </a:lnTo>
                <a:cubicBezTo>
                  <a:pt x="6664606" y="3905939"/>
                  <a:pt x="6627853" y="3942692"/>
                  <a:pt x="6582516" y="3942692"/>
                </a:cubicBezTo>
                <a:lnTo>
                  <a:pt x="0" y="3942692"/>
                </a:lnTo>
                <a:lnTo>
                  <a:pt x="1046923" y="0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" name="Rounded Rectangle 11"/>
          <p:cNvSpPr/>
          <p:nvPr/>
        </p:nvSpPr>
        <p:spPr>
          <a:xfrm rot="20707200">
            <a:off x="6167160" y="-441360"/>
            <a:ext cx="3127320" cy="2425680"/>
          </a:xfrm>
          <a:custGeom>
            <a:avLst/>
            <a:gdLst/>
            <a:ahLst/>
            <a:rect l="l" t="t" r="r" b="b"/>
            <a:pathLst>
              <a:path w="3126510" h="2426476">
                <a:moveTo>
                  <a:pt x="0" y="0"/>
                </a:moveTo>
                <a:lnTo>
                  <a:pt x="3126510" y="830198"/>
                </a:lnTo>
                <a:lnTo>
                  <a:pt x="2702642" y="2426476"/>
                </a:lnTo>
                <a:lnTo>
                  <a:pt x="82091" y="2426476"/>
                </a:lnTo>
                <a:cubicBezTo>
                  <a:pt x="36754" y="2426475"/>
                  <a:pt x="1" y="2389722"/>
                  <a:pt x="1" y="234438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 rot="20707200">
            <a:off x="7143480" y="2001960"/>
            <a:ext cx="2679480" cy="4944960"/>
          </a:xfrm>
          <a:custGeom>
            <a:avLst/>
            <a:gdLst/>
            <a:ahLst/>
            <a:rect l="l" t="t" r="r" b="b"/>
            <a:pathLst>
              <a:path w="2679455" h="4946037">
                <a:moveTo>
                  <a:pt x="2679455" y="0"/>
                </a:moveTo>
                <a:lnTo>
                  <a:pt x="1366108" y="4946037"/>
                </a:lnTo>
                <a:lnTo>
                  <a:pt x="0" y="4583288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267945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" name="Rounded Rectangle 8"/>
          <p:cNvSpPr/>
          <p:nvPr/>
        </p:nvSpPr>
        <p:spPr>
          <a:xfrm rot="20707200">
            <a:off x="-206280" y="3322800"/>
            <a:ext cx="7378560" cy="4557600"/>
          </a:xfrm>
          <a:custGeom>
            <a:avLst/>
            <a:gdLst/>
            <a:ahLst/>
            <a:rect l="l" t="t" r="r" b="b"/>
            <a:pathLst>
              <a:path w="7378073" h="4557796">
                <a:moveTo>
                  <a:pt x="7327936" y="6451"/>
                </a:moveTo>
                <a:cubicBezTo>
                  <a:pt x="7357400" y="18913"/>
                  <a:pt x="7378073" y="48087"/>
                  <a:pt x="7378073" y="82090"/>
                </a:cubicBezTo>
                <a:lnTo>
                  <a:pt x="7378073" y="4557796"/>
                </a:lnTo>
                <a:lnTo>
                  <a:pt x="0" y="2598658"/>
                </a:lnTo>
                <a:lnTo>
                  <a:pt x="690034" y="0"/>
                </a:lnTo>
                <a:lnTo>
                  <a:pt x="7295983" y="0"/>
                </a:lnTo>
                <a:cubicBezTo>
                  <a:pt x="7307317" y="0"/>
                  <a:pt x="7318115" y="2297"/>
                  <a:pt x="7327936" y="645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20700000">
            <a:off x="6741720" y="23126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 rot="20700000">
            <a:off x="6551280" y="1528560"/>
            <a:ext cx="2465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 rot="20700000">
            <a:off x="6451200" y="1162080"/>
            <a:ext cx="2133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27B6-A02C-4319-8678-96D332D4693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le 8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0" name="Rounded Rectangle 12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1" name="Rounded Rectangle 13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Rounded Rectangle 14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 rot="900000">
            <a:off x="1690560" y="607680"/>
            <a:ext cx="178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 rot="900000">
            <a:off x="3102840" y="6176520"/>
            <a:ext cx="239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 rot="900000">
            <a:off x="1265400" y="299160"/>
            <a:ext cx="2287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A917-4248-4C19-80BC-02F6C5C1E417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16"/>
          <p:cNvSpPr/>
          <p:nvPr/>
        </p:nvSpPr>
        <p:spPr>
          <a:xfrm rot="900000">
            <a:off x="-56880" y="-1017720"/>
            <a:ext cx="7412040" cy="3438720"/>
          </a:xfrm>
          <a:custGeom>
            <a:avLst/>
            <a:gdLst/>
            <a:ahLst/>
            <a:rect l="l" t="t" r="r" b="b"/>
            <a:pathLst>
              <a:path w="7411427" h="3438177">
                <a:moveTo>
                  <a:pt x="0" y="1985886"/>
                </a:moveTo>
                <a:lnTo>
                  <a:pt x="7411427" y="0"/>
                </a:lnTo>
                <a:lnTo>
                  <a:pt x="7411427" y="3356087"/>
                </a:lnTo>
                <a:cubicBezTo>
                  <a:pt x="7411427" y="3401424"/>
                  <a:pt x="7374674" y="3438177"/>
                  <a:pt x="7329337" y="3438177"/>
                </a:cubicBezTo>
                <a:lnTo>
                  <a:pt x="389140" y="3438177"/>
                </a:lnTo>
                <a:lnTo>
                  <a:pt x="0" y="1985886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6" name="Rounded Rectangle 17"/>
          <p:cNvSpPr/>
          <p:nvPr/>
        </p:nvSpPr>
        <p:spPr>
          <a:xfrm rot="900000">
            <a:off x="-776160" y="2417760"/>
            <a:ext cx="6997680" cy="5079960"/>
          </a:xfrm>
          <a:custGeom>
            <a:avLst/>
            <a:gdLst/>
            <a:ahLst/>
            <a:rect l="l" t="t" r="r" b="b"/>
            <a:pathLst>
              <a:path w="6998365" h="5080081">
                <a:moveTo>
                  <a:pt x="0" y="0"/>
                </a:moveTo>
                <a:lnTo>
                  <a:pt x="6916275" y="0"/>
                </a:lnTo>
                <a:cubicBezTo>
                  <a:pt x="6961612" y="0"/>
                  <a:pt x="6998365" y="36753"/>
                  <a:pt x="6998365" y="82090"/>
                </a:cubicBezTo>
                <a:lnTo>
                  <a:pt x="6998365" y="3569608"/>
                </a:lnTo>
                <a:lnTo>
                  <a:pt x="1361203" y="508008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7" name="Rounded Rectangle 18"/>
          <p:cNvSpPr/>
          <p:nvPr/>
        </p:nvSpPr>
        <p:spPr>
          <a:xfrm rot="900000">
            <a:off x="6337080" y="3774600"/>
            <a:ext cx="3103560" cy="3544920"/>
          </a:xfrm>
          <a:custGeom>
            <a:avLst/>
            <a:gdLst/>
            <a:ahLst/>
            <a:rect l="l" t="t" r="r" b="b"/>
            <a:pathLst>
              <a:path w="3102275" h="3544033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375388" y="0"/>
                </a:lnTo>
                <a:lnTo>
                  <a:pt x="3102275" y="2712781"/>
                </a:lnTo>
                <a:lnTo>
                  <a:pt x="0" y="3544033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8" name="Rounded Rectangle 19"/>
          <p:cNvSpPr/>
          <p:nvPr/>
        </p:nvSpPr>
        <p:spPr>
          <a:xfrm rot="900000">
            <a:off x="7327800" y="-104400"/>
            <a:ext cx="2351160" cy="3821040"/>
          </a:xfrm>
          <a:custGeom>
            <a:avLst/>
            <a:gdLst/>
            <a:ahLst/>
            <a:rect l="l" t="t" r="r" b="b"/>
            <a:pathLst>
              <a:path w="2350627" h="3820866">
                <a:moveTo>
                  <a:pt x="1" y="355523"/>
                </a:moveTo>
                <a:lnTo>
                  <a:pt x="1326829" y="0"/>
                </a:lnTo>
                <a:lnTo>
                  <a:pt x="2350627" y="3820866"/>
                </a:lnTo>
                <a:lnTo>
                  <a:pt x="82091" y="3820866"/>
                </a:lnTo>
                <a:cubicBezTo>
                  <a:pt x="36754" y="3820866"/>
                  <a:pt x="1" y="3784113"/>
                  <a:pt x="0" y="3738776"/>
                </a:cubicBezTo>
                <a:lnTo>
                  <a:pt x="1" y="355523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 rot="900000">
            <a:off x="6878160" y="376056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 rot="900000">
            <a:off x="7056000" y="3169800"/>
            <a:ext cx="192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 rot="900000">
            <a:off x="7176600" y="2660760"/>
            <a:ext cx="68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685F-04A2-433A-A106-F92394944708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le 16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2" name="Rounded Rectangle 17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3" name="Rounded Rectangle 18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4" name="Rounded Rectangle 19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 rot="20700000">
            <a:off x="7756560" y="588780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 rot="20700000">
            <a:off x="4053960" y="549432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 rot="20700000">
            <a:off x="7689960" y="564336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4FDE-6EEA-4667-9E0E-D2541BFC50E9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ounded Rectangle 52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8" name="Rounded Rectangle 53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9" name="Rounded Rectangle 54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0" name="Rounded Rectangle 55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 rot="20700000">
            <a:off x="4051080" y="549504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2D26-60E2-4704-85BE-FDB33134473E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ounded Rectangle 20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4" name="Rounded Rectangle 21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5" name="Rounded Rectangle 22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6" name="Rounded Rectangle 23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900000">
            <a:off x="1692000" y="612360"/>
            <a:ext cx="179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 rot="900000">
            <a:off x="2493720" y="6100560"/>
            <a:ext cx="305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 rot="900000">
            <a:off x="1261800" y="301680"/>
            <a:ext cx="228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338F-BAC0-47FF-A1F3-0520A6AF68E5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Rounded Rectangle 11"/>
          <p:cNvSpPr/>
          <p:nvPr/>
        </p:nvSpPr>
        <p:spPr>
          <a:xfrm rot="900000">
            <a:off x="-371520" y="-1217160"/>
            <a:ext cx="8577360" cy="6343560"/>
          </a:xfrm>
          <a:custGeom>
            <a:avLst/>
            <a:gdLst/>
            <a:ahLst/>
            <a:rect l="l" t="t" r="r" b="b"/>
            <a:pathLst>
              <a:path w="8577953" h="6344114">
                <a:moveTo>
                  <a:pt x="0" y="2298455"/>
                </a:moveTo>
                <a:lnTo>
                  <a:pt x="8577953" y="0"/>
                </a:lnTo>
                <a:lnTo>
                  <a:pt x="8577953" y="6262024"/>
                </a:lnTo>
                <a:cubicBezTo>
                  <a:pt x="8577953" y="6307361"/>
                  <a:pt x="8541200" y="6344113"/>
                  <a:pt x="8495863" y="6344113"/>
                </a:cubicBezTo>
                <a:lnTo>
                  <a:pt x="1084031" y="6344114"/>
                </a:lnTo>
                <a:lnTo>
                  <a:pt x="0" y="2298455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0" name="Rounded Rectangle 12"/>
          <p:cNvSpPr/>
          <p:nvPr/>
        </p:nvSpPr>
        <p:spPr>
          <a:xfrm rot="900000">
            <a:off x="-449280" y="5208120"/>
            <a:ext cx="7470720" cy="2486160"/>
          </a:xfrm>
          <a:custGeom>
            <a:avLst/>
            <a:gdLst/>
            <a:ahLst/>
            <a:rect l="l" t="t" r="r" b="b"/>
            <a:pathLst>
              <a:path w="7470000" h="2486713">
                <a:moveTo>
                  <a:pt x="0" y="0"/>
                </a:moveTo>
                <a:lnTo>
                  <a:pt x="7387910" y="0"/>
                </a:lnTo>
                <a:cubicBezTo>
                  <a:pt x="7433247" y="0"/>
                  <a:pt x="7470000" y="36753"/>
                  <a:pt x="7470000" y="82090"/>
                </a:cubicBezTo>
                <a:lnTo>
                  <a:pt x="7470000" y="663670"/>
                </a:lnTo>
                <a:lnTo>
                  <a:pt x="666313" y="24867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1" name="Rounded Rectangle 13"/>
          <p:cNvSpPr/>
          <p:nvPr/>
        </p:nvSpPr>
        <p:spPr>
          <a:xfrm rot="900000">
            <a:off x="7192800" y="6483240"/>
            <a:ext cx="1932120" cy="635040"/>
          </a:xfrm>
          <a:custGeom>
            <a:avLst/>
            <a:gdLst/>
            <a:ahLst/>
            <a:rect l="l" t="t" r="r" b="b"/>
            <a:pathLst>
              <a:path w="1932834" h="63563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01288" y="0"/>
                </a:lnTo>
                <a:lnTo>
                  <a:pt x="1932834" y="117729"/>
                </a:lnTo>
                <a:lnTo>
                  <a:pt x="0" y="635630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2" name="Rounded Rectangle 14"/>
          <p:cNvSpPr/>
          <p:nvPr/>
        </p:nvSpPr>
        <p:spPr>
          <a:xfrm rot="900000">
            <a:off x="8126280" y="92160"/>
            <a:ext cx="1879560" cy="6414840"/>
          </a:xfrm>
          <a:custGeom>
            <a:avLst/>
            <a:gdLst/>
            <a:ahLst/>
            <a:rect l="l" t="t" r="r" b="b"/>
            <a:pathLst>
              <a:path w="1878991" h="6414233">
                <a:moveTo>
                  <a:pt x="0" y="42953"/>
                </a:moveTo>
                <a:lnTo>
                  <a:pt x="160303" y="0"/>
                </a:lnTo>
                <a:lnTo>
                  <a:pt x="1878991" y="6414233"/>
                </a:lnTo>
                <a:lnTo>
                  <a:pt x="82090" y="6414233"/>
                </a:lnTo>
                <a:cubicBezTo>
                  <a:pt x="36753" y="6414233"/>
                  <a:pt x="0" y="6377480"/>
                  <a:pt x="0" y="6332143"/>
                </a:cubicBezTo>
                <a:lnTo>
                  <a:pt x="0" y="42953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 rot="900000">
            <a:off x="7521120" y="592740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 rot="900000">
            <a:off x="3892320" y="5987880"/>
            <a:ext cx="31240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 rot="900000">
            <a:off x="7598520" y="5570640"/>
            <a:ext cx="71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1C41-D5AF-4C9E-9D17-484910C2AC41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Rounded Rectangle 12"/>
          <p:cNvSpPr/>
          <p:nvPr/>
        </p:nvSpPr>
        <p:spPr>
          <a:xfrm rot="20707200">
            <a:off x="-896400" y="-623880"/>
            <a:ext cx="7286400" cy="6040440"/>
          </a:xfrm>
          <a:custGeom>
            <a:avLst/>
            <a:gdLst/>
            <a:ahLst/>
            <a:rect l="l" t="t" r="r" b="b"/>
            <a:pathLst>
              <a:path w="7286946" h="6041338">
                <a:moveTo>
                  <a:pt x="1604186" y="0"/>
                </a:moveTo>
                <a:lnTo>
                  <a:pt x="7286946" y="1508972"/>
                </a:lnTo>
                <a:lnTo>
                  <a:pt x="7286946" y="5959247"/>
                </a:lnTo>
                <a:cubicBezTo>
                  <a:pt x="7286946" y="6004584"/>
                  <a:pt x="7250193" y="6041337"/>
                  <a:pt x="7204856" y="6041337"/>
                </a:cubicBezTo>
                <a:lnTo>
                  <a:pt x="0" y="6041338"/>
                </a:lnTo>
                <a:lnTo>
                  <a:pt x="1604186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6" name="Rounded Rectangle 13"/>
          <p:cNvSpPr/>
          <p:nvPr/>
        </p:nvSpPr>
        <p:spPr>
          <a:xfrm rot="20707200">
            <a:off x="64800" y="5378400"/>
            <a:ext cx="7442280" cy="2476440"/>
          </a:xfrm>
          <a:custGeom>
            <a:avLst/>
            <a:gdLst/>
            <a:ahLst/>
            <a:rect l="l" t="t" r="r" b="b"/>
            <a:pathLst>
              <a:path w="7443151" h="2476431">
                <a:moveTo>
                  <a:pt x="7393013" y="6452"/>
                </a:moveTo>
                <a:cubicBezTo>
                  <a:pt x="7422477" y="18914"/>
                  <a:pt x="7443150" y="48087"/>
                  <a:pt x="7443150" y="82090"/>
                </a:cubicBezTo>
                <a:lnTo>
                  <a:pt x="7443151" y="2476431"/>
                </a:lnTo>
                <a:lnTo>
                  <a:pt x="0" y="500014"/>
                </a:lnTo>
                <a:lnTo>
                  <a:pt x="132771" y="1"/>
                </a:lnTo>
                <a:lnTo>
                  <a:pt x="7361060" y="1"/>
                </a:lnTo>
                <a:cubicBezTo>
                  <a:pt x="7372394" y="0"/>
                  <a:pt x="7383192" y="2298"/>
                  <a:pt x="7393013" y="6452"/>
                </a:cubicBez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7" name="Rounded Rectangle 14"/>
          <p:cNvSpPr/>
          <p:nvPr/>
        </p:nvSpPr>
        <p:spPr>
          <a:xfrm rot="20707200">
            <a:off x="7661160" y="5459400"/>
            <a:ext cx="1708200" cy="1538280"/>
          </a:xfrm>
          <a:custGeom>
            <a:avLst/>
            <a:gdLst/>
            <a:ahLst/>
            <a:rect l="l" t="t" r="r" b="b"/>
            <a:pathLst>
              <a:path w="1709023" h="1538302">
                <a:moveTo>
                  <a:pt x="1709023" y="0"/>
                </a:moveTo>
                <a:lnTo>
                  <a:pt x="1300550" y="1538302"/>
                </a:lnTo>
                <a:lnTo>
                  <a:pt x="0" y="119296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3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8" name="Rounded Rectangle 15"/>
          <p:cNvSpPr/>
          <p:nvPr/>
        </p:nvSpPr>
        <p:spPr>
          <a:xfrm rot="20707200">
            <a:off x="6673320" y="-490320"/>
            <a:ext cx="3059280" cy="5810400"/>
          </a:xfrm>
          <a:custGeom>
            <a:avLst/>
            <a:gdLst/>
            <a:ahLst/>
            <a:rect l="l" t="t" r="r" b="b"/>
            <a:pathLst>
              <a:path w="3059119" h="5809409">
                <a:moveTo>
                  <a:pt x="0" y="0"/>
                </a:moveTo>
                <a:lnTo>
                  <a:pt x="3059119" y="812303"/>
                </a:lnTo>
                <a:lnTo>
                  <a:pt x="1732212" y="5809409"/>
                </a:lnTo>
                <a:lnTo>
                  <a:pt x="82090" y="5809409"/>
                </a:lnTo>
                <a:cubicBezTo>
                  <a:pt x="36753" y="5809409"/>
                  <a:pt x="0" y="5772656"/>
                  <a:pt x="0" y="5727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 rot="20700000">
            <a:off x="4264200" y="6098760"/>
            <a:ext cx="306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B473-FF4F-4424-90E0-AC8018B0ECFD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4"/>
          <p:cNvSpPr/>
          <p:nvPr/>
        </p:nvSpPr>
        <p:spPr>
          <a:xfrm>
            <a:off x="179280" y="260280"/>
            <a:ext cx="8777520" cy="2560680"/>
          </a:xfrm>
          <a:prstGeom prst="rect">
            <a:avLst/>
          </a:prstGeom>
          <a:solidFill>
            <a:srgbClr val="5069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Уральское управление Ростехнадзора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Межрегиональный отдел металлургического надзор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бенности организации 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уществления государственного контроля (надзора) на объектах металлургической 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ксохимической промышленности в 2024 году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56" name="Picture 6" descr="C:\Users\v.noskov\Desktop\Задания\2019 год\Презентация АВ (В РАБОТЕ!)\Логотип РТН.png"/>
          <p:cNvPicPr/>
          <p:nvPr/>
        </p:nvPicPr>
        <p:blipFill>
          <a:blip r:embed="rId1"/>
          <a:stretch/>
        </p:blipFill>
        <p:spPr>
          <a:xfrm>
            <a:off x="324000" y="404640"/>
            <a:ext cx="1295280" cy="1519560"/>
          </a:xfrm>
          <a:prstGeom prst="rect">
            <a:avLst/>
          </a:prstGeom>
          <a:ln w="0">
            <a:noFill/>
          </a:ln>
        </p:spPr>
      </p:pic>
      <p:sp>
        <p:nvSpPr>
          <p:cNvPr id="557" name="Прямая соединительная линия 2"/>
          <p:cNvSpPr/>
          <p:nvPr/>
        </p:nvSpPr>
        <p:spPr>
          <a:xfrm>
            <a:off x="1835280" y="1460520"/>
            <a:ext cx="6408720" cy="0"/>
          </a:xfrm>
          <a:prstGeom prst="line">
            <a:avLst/>
          </a:prstGeom>
          <a:ln w="12600">
            <a:solidFill>
              <a:srgbClr val="559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58" name="Picture 7" descr="C:\Users\v.noskov\Desktop\foto.jpg"/>
          <p:cNvPicPr/>
          <p:nvPr/>
        </p:nvPicPr>
        <p:blipFill>
          <a:blip r:embed="rId2"/>
          <a:stretch/>
        </p:blipFill>
        <p:spPr>
          <a:xfrm>
            <a:off x="179280" y="2924280"/>
            <a:ext cx="5548320" cy="3700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539640" y="765000"/>
            <a:ext cx="8136000" cy="5421600"/>
          </a:xfrm>
          <a:prstGeom prst="rect">
            <a:avLst/>
          </a:prstGeom>
          <a:solidFill>
            <a:srgbClr val="50698e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Cambria"/>
                <a:ea typeface="Times New Roman"/>
              </a:rPr>
              <a:t>Основные причины травматизма: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Cambria"/>
                <a:ea typeface="Times New Roman"/>
              </a:rPr>
              <a:t>Организационные причины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Times New Roman"/>
              </a:rPr>
              <a:t>- неудовлетворительная организация производства работ;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Times New Roman"/>
              </a:rPr>
              <a:t>- неэффективность производственного контроля за соблюдением требований промышленной безопасности.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Cambria"/>
                <a:ea typeface="Times New Roman"/>
              </a:rPr>
              <a:t>Технические причины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Times New Roman"/>
              </a:rPr>
              <a:t>- неудовлетворительное состояние технических устройств, сооружений, оборудования;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Times New Roman"/>
              </a:rPr>
              <a:t>- нарушение технологии производства работ;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Times New Roman"/>
              </a:rPr>
              <a:t>- конструктивные недостатки оборудования.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96" name="Прямоугольник 1"/>
          <p:cNvSpPr/>
          <p:nvPr/>
        </p:nvSpPr>
        <p:spPr>
          <a:xfrm>
            <a:off x="536400" y="189000"/>
            <a:ext cx="81378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оказатели аварийности и производственного травматизм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"/>
          <p:cNvGraphicFramePr/>
          <p:nvPr/>
        </p:nvGraphicFramePr>
        <p:xfrm>
          <a:off x="287280" y="981000"/>
          <a:ext cx="8640720" cy="4857840"/>
        </p:xfrm>
        <a:graphic>
          <a:graphicData uri="http://schemas.openxmlformats.org/drawingml/2006/table">
            <a:tbl>
              <a:tblPr/>
              <a:tblGrid>
                <a:gridCol w="7323120"/>
                <a:gridCol w="1317600"/>
              </a:tblGrid>
              <a:tr h="754200">
                <a:tc gridSpan="2"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лановые проверки 2024 в сравнении с 2023 годом     (1)</a:t>
                      </a:r>
                      <a:endParaRPr b="0" lang="en-US" sz="2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>
                  <a:txBody>
                    <a:bodyPr lIns="61920" rIns="61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лановых проверок  в 2023 г.</a:t>
                      </a:r>
                      <a:endParaRPr b="0" lang="en-US" sz="16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 Narrow"/>
                          <a:ea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3160">
                <a:tc>
                  <a:txBody>
                    <a:bodyPr lIns="61920" rIns="61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лановых проверок в 2024 г.</a:t>
                      </a:r>
                      <a:endParaRPr b="0" lang="en-US" sz="16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 Narrow"/>
                          <a:ea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16120"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зменения, %</a:t>
                      </a:r>
                      <a:endParaRPr b="0" lang="en-US" sz="16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0 %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74800">
                <a:tc>
                  <a:txBody>
                    <a:bodyPr lIns="61920" rIns="61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роверок в 2023 г., по итогам проведения которых выявлены правонарушения (выданы предписания)</a:t>
                      </a:r>
                      <a:endParaRPr b="0" lang="en-US" sz="16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 Narrow"/>
                          <a:ea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73000">
                <a:tc>
                  <a:txBody>
                    <a:bodyPr lIns="61920" rIns="61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роверок в 2024 г., по итогам проведения которых выявлены правонарушения (выданы предписания)</a:t>
                      </a:r>
                      <a:endParaRPr b="0" lang="en-US" sz="16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 Narrow"/>
                          <a:ea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98" name="Прямоугольник 3"/>
          <p:cNvSpPr/>
          <p:nvPr/>
        </p:nvSpPr>
        <p:spPr>
          <a:xfrm>
            <a:off x="250920" y="11592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Анализ основных показателей надзорной деятельности в период с 01.01.2024 по 01.06.2024 и аналогичный период 2023  год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9" name=""/>
          <p:cNvGraphicFramePr/>
          <p:nvPr/>
        </p:nvGraphicFramePr>
        <p:xfrm>
          <a:off x="324000" y="1052640"/>
          <a:ext cx="8569080" cy="5472000"/>
        </p:xfrm>
        <a:graphic>
          <a:graphicData uri="http://schemas.openxmlformats.org/drawingml/2006/table">
            <a:tbl>
              <a:tblPr/>
              <a:tblGrid>
                <a:gridCol w="7059600"/>
                <a:gridCol w="1509480"/>
              </a:tblGrid>
              <a:tr h="550800">
                <a:tc gridSpan="2"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лановые проверки 2024 в сравнении с 2023 годом     (2)</a:t>
                      </a:r>
                      <a:endParaRPr b="0" lang="en-US" sz="2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77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роверок в 2023 г., по итогам которых, по фактам нарушений возбуждены адм. дела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  <a:ea typeface="Calibri"/>
                        </a:rPr>
                        <a:t>28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65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роверок в 2024 г., по итогам которых, по фактам нарушений возбуждены адм. дела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47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зменения, % 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- 21 %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8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ыявлено правонарушений в 2023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377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0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ыявлено правонарушений в 2024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409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84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зменения, %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+ 8,5 %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00" name="Прямоугольник 3"/>
          <p:cNvSpPr/>
          <p:nvPr/>
        </p:nvSpPr>
        <p:spPr>
          <a:xfrm>
            <a:off x="250920" y="1890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Анализ основных показателей надзорной деятельности в период с 01.01.2024 по 01.06.2024 и аналогичный период 2023  год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1" name=""/>
          <p:cNvGraphicFramePr/>
          <p:nvPr/>
        </p:nvGraphicFramePr>
        <p:xfrm>
          <a:off x="250920" y="744480"/>
          <a:ext cx="8712000" cy="6035760"/>
        </p:xfrm>
        <a:graphic>
          <a:graphicData uri="http://schemas.openxmlformats.org/drawingml/2006/table">
            <a:tbl>
              <a:tblPr/>
              <a:tblGrid>
                <a:gridCol w="7383240"/>
                <a:gridCol w="1328760"/>
              </a:tblGrid>
              <a:tr h="457200">
                <a:tc gridSpan="2"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лановые проверки 2024 в сравнении с 2023 годом     (3)</a:t>
                      </a:r>
                      <a:endParaRPr b="0" lang="en-US" sz="2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нарушений на 1 предписание в 2023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13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9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нарушений на 1 предписание в 2024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16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3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зменения, %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+ 23 %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инспекторов в отделе (на 01.06.2023)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16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78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инспекторов в отделе (на 01.06.2024) 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13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0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зменения, %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- 19 %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68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лановых проверок на 1 инспектора в 2023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1,75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лановых проверок на 1 инспектора в 2024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2,15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7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зменения, %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2d050"/>
                          </a:solidFill>
                          <a:latin typeface="Arial Narrow"/>
                        </a:rPr>
                        <a:t>(Вывод: количество плановых проверок на 1 инспектора возросло в связи с уменьшением количества инспекторов)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+ 22,8 %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02" name="Прямоугольник 3"/>
          <p:cNvSpPr/>
          <p:nvPr/>
        </p:nvSpPr>
        <p:spPr>
          <a:xfrm>
            <a:off x="250920" y="36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Анализ основных показателей надзорной деятельности в период с 01.01.2024 по 01.06.2024 и аналогичный период 2023  год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3" name=""/>
          <p:cNvGraphicFramePr/>
          <p:nvPr/>
        </p:nvGraphicFramePr>
        <p:xfrm>
          <a:off x="179280" y="981000"/>
          <a:ext cx="8785440" cy="5699160"/>
        </p:xfrm>
        <a:graphic>
          <a:graphicData uri="http://schemas.openxmlformats.org/drawingml/2006/table">
            <a:tbl>
              <a:tblPr/>
              <a:tblGrid>
                <a:gridCol w="6400800"/>
                <a:gridCol w="2384640"/>
              </a:tblGrid>
              <a:tr h="371520">
                <a:tc gridSpan="2"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лановые проверки 2024 в сравнении с 2023 годом     (4)</a:t>
                      </a:r>
                      <a:endParaRPr b="0" lang="en-US" sz="2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68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редписаний на 1 инспектора при плановых проверках в 2023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1,75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54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редписаний на 1 инспектора при плановых проверках в 2024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97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зменения, %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+ 14 %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нарушений на 1 инспектора при плановых проверках в 2023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23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83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нарушений на 1 инспектора при плановых проверках в 2024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31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46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зменения, %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2d050"/>
                          </a:solidFill>
                          <a:latin typeface="Arial Narrow"/>
                        </a:rPr>
                        <a:t>(Вывод: количество нарушений на 1 инспектора при плановых проверках возросло несмотря на уменьшение количества инспекторского состава)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+ 34 %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04" name="Прямоугольник 3"/>
          <p:cNvSpPr/>
          <p:nvPr/>
        </p:nvSpPr>
        <p:spPr>
          <a:xfrm>
            <a:off x="250920" y="36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Анализ основных показателей надзорной деятельности в период с 01.01.2024 по 01.06.2024 и аналогичный период 2023  год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Диаграмма 7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488360" cy="482760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сколько % изменилось количество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являемых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онарушений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и проведении плановых проверок в 2024 году в сравнении с 2023 годом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07" name="Прямая соединительная линия 3"/>
          <p:cNvSpPr/>
          <p:nvPr/>
        </p:nvSpPr>
        <p:spPr>
          <a:xfrm>
            <a:off x="2195640" y="4941720"/>
            <a:ext cx="53020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8" name="TextBox 8"/>
          <p:cNvSpPr/>
          <p:nvPr/>
        </p:nvSpPr>
        <p:spPr>
          <a:xfrm>
            <a:off x="2916360" y="4149720"/>
            <a:ext cx="28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УВЕЛИЧЕНИЕ НА 8 %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9" name="Прямоугольник 5"/>
          <p:cNvSpPr/>
          <p:nvPr/>
        </p:nvSpPr>
        <p:spPr>
          <a:xfrm>
            <a:off x="250920" y="36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Анализ основных показателей надзорной деятельности в период с 01.01.2024 по 01.06.2024 и аналогичный период 2023  год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Box 6"/>
          <p:cNvSpPr/>
          <p:nvPr/>
        </p:nvSpPr>
        <p:spPr>
          <a:xfrm>
            <a:off x="754200" y="26028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нализ соблюдения законодательно установленных процедур регулирования промышленной безопасност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1" name="TextBox 7"/>
          <p:cNvSpPr/>
          <p:nvPr/>
        </p:nvSpPr>
        <p:spPr>
          <a:xfrm>
            <a:off x="324000" y="98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2" name="TextBox 3"/>
          <p:cNvSpPr/>
          <p:nvPr/>
        </p:nvSpPr>
        <p:spPr>
          <a:xfrm>
            <a:off x="324000" y="84132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оизводственный контроль за соблюдением требований промышленной безопасност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68200" y="2276640"/>
          <a:ext cx="8444160" cy="3044520"/>
        </p:xfrm>
        <a:graphic>
          <a:graphicData uri="http://schemas.openxmlformats.org/drawingml/2006/table">
            <a:tbl>
              <a:tblPr/>
              <a:tblGrid>
                <a:gridCol w="4222800"/>
                <a:gridCol w="4221360"/>
              </a:tblGrid>
              <a:tr h="66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Свердловская, Челябинская и Курганская области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</a:tr>
              <a:tr h="38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Закреплено за отделом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: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66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Рассмотрено отчетов о ПК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: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66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Деятельность не ведется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: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66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Сведений не предоставлено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: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</a:tbl>
          </a:graphicData>
        </a:graphic>
      </p:graphicFrame>
      <p:sp>
        <p:nvSpPr>
          <p:cNvPr id="614" name="TextBox 11"/>
          <p:cNvSpPr/>
          <p:nvPr/>
        </p:nvSpPr>
        <p:spPr>
          <a:xfrm>
            <a:off x="216000" y="5445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ланируется привлечение к административной ответственности, организаций не предоставивших отчет об организации производственного контроля за соблюдением требований промышленной безопасности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5" name="Прямоугольник 1"/>
          <p:cNvSpPr/>
          <p:nvPr/>
        </p:nvSpPr>
        <p:spPr>
          <a:xfrm>
            <a:off x="216000" y="162396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За межрегиональным отделом металлургического надзора закреплено 152 предприятий по контролю отчетов о ПК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Box 6"/>
          <p:cNvSpPr/>
          <p:nvPr/>
        </p:nvSpPr>
        <p:spPr>
          <a:xfrm>
            <a:off x="765000" y="1159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нализ соблюдения законодательно установленных процедур регулирования промышленной безопасност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7" name="TextBox 7"/>
          <p:cNvSpPr/>
          <p:nvPr/>
        </p:nvSpPr>
        <p:spPr>
          <a:xfrm>
            <a:off x="358920" y="1341360"/>
            <a:ext cx="8280360" cy="45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 состоянию на 01.06.2024, под надзором межрегионального отдела металлургического надзора находится 1537 технических устройств, в т.ч. 190 электродуговых печей, 205 индукционных печей и 175 технических устройств (различного вида) по получению цветных металлов. Примерное количество зданий и сооружений – 388, включая дымовые трубы и другие сооружения. При этом здания и сооружения отработавшие нормативный срок эксплуатации подлежат экспертизе промышленной безопасности.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Фактов эксплуатации зданий и сооружений без проведения экспертизы промышленной безопасности, не зафиксировано. Однако, имеются отдельные случаи несвоевременного проведения очередной экспертизы промышленной безопасности, а также несвоевременного выполнения мероприятий предписанных экспертизой промышленной безопасности, за что применяется административное наказание, вплоть до приостановки деятельности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8" name="Прямоугольник 3"/>
          <p:cNvSpPr/>
          <p:nvPr/>
        </p:nvSpPr>
        <p:spPr>
          <a:xfrm>
            <a:off x="2471760" y="763560"/>
            <a:ext cx="46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Экспертиза промышленной безопасност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Box 6"/>
          <p:cNvSpPr/>
          <p:nvPr/>
        </p:nvSpPr>
        <p:spPr>
          <a:xfrm>
            <a:off x="765000" y="1159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нализ соблюдения законодательно установленных процедур регулирования промышленной безопасност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0" name="Прямоугольник 1"/>
          <p:cNvSpPr/>
          <p:nvPr/>
        </p:nvSpPr>
        <p:spPr>
          <a:xfrm>
            <a:off x="660960" y="763560"/>
            <a:ext cx="82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трахование ответственности за причинения вреда при эксплуатации ОП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1" name="Прямоугольник 4"/>
          <p:cNvSpPr/>
          <p:nvPr/>
        </p:nvSpPr>
        <p:spPr>
          <a:xfrm>
            <a:off x="225360" y="1484280"/>
            <a:ext cx="872820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д надзором межрегионального отдела металлургического надзора находится 157 организаций эксплуатирующих опасные производственные объекты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 состоянию на 01.06.2024, полис страхования отсутствует у 10 предприятий, которые, в настоящий момент, не ведут лицензионную деятельность. Таким образом, процент организации с отсутствующим полисом страхования, составляет – 6,5 %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 данным предприятиям будет проводиться проверка на наличие признаков опасности с последующим исключением из государственного реестра основных производственных объектов.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Прямоугольник 1"/>
          <p:cNvSpPr/>
          <p:nvPr/>
        </p:nvSpPr>
        <p:spPr>
          <a:xfrm>
            <a:off x="2411280" y="189000"/>
            <a:ext cx="46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нализ показателей лицензирования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3" name="Прямоугольник 2"/>
          <p:cNvSpPr/>
          <p:nvPr/>
        </p:nvSpPr>
        <p:spPr>
          <a:xfrm>
            <a:off x="108000" y="603360"/>
            <a:ext cx="9036000" cy="35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д надзором межрегионального отдела металлургического надзора находится 152 организации эксплуатирующие опасные производственные объекты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ез лицензии числится 1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предприятий на которых лицензионная деятельность не ведется по следующим причинам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ликвидации из ЕГРЮЛ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ведено конкурсное управление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тсутствует эксплуатирующий персонал, эксплуатация ОПО не ведется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5" descr="C:\Users\v.noskov\Desktop\uralskiy.jpg"/>
          <p:cNvPicPr/>
          <p:nvPr/>
        </p:nvPicPr>
        <p:blipFill>
          <a:blip r:embed="rId1"/>
          <a:stretch/>
        </p:blipFill>
        <p:spPr>
          <a:xfrm>
            <a:off x="596880" y="1481040"/>
            <a:ext cx="4681440" cy="473076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-7920" y="475920"/>
            <a:ext cx="915192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состоянию на 01.06.2024 г. Уральским управлением Ростехнадзора зарегистрировано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57 организации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эксплуатирующих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12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О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однадзорных металлургическому надзору</a:t>
            </a:r>
            <a:endParaRPr b="0" lang="en-US" sz="1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61" name="TextBox 1"/>
          <p:cNvSpPr/>
          <p:nvPr/>
        </p:nvSpPr>
        <p:spPr>
          <a:xfrm>
            <a:off x="6026040" y="2276640"/>
            <a:ext cx="302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Челябинская область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162 ОП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140 ОП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Курганская область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10 ОП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2" name="Овал 1"/>
          <p:cNvSpPr/>
          <p:nvPr/>
        </p:nvSpPr>
        <p:spPr>
          <a:xfrm>
            <a:off x="971640" y="2471760"/>
            <a:ext cx="3671640" cy="3602160"/>
          </a:xfrm>
          <a:prstGeom prst="ellipse">
            <a:avLst/>
          </a:prstGeom>
          <a:noFill/>
          <a:ln w="25560">
            <a:solidFill>
              <a:srgbClr val="4272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3" name="Прямоугольник 2"/>
          <p:cNvSpPr/>
          <p:nvPr/>
        </p:nvSpPr>
        <p:spPr>
          <a:xfrm>
            <a:off x="0" y="115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Характеристика поднадзорных производств и объектов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Прямоугольник 4"/>
          <p:cNvSpPr/>
          <p:nvPr/>
        </p:nvSpPr>
        <p:spPr>
          <a:xfrm>
            <a:off x="1403280" y="11592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бщая оценка состояния безопасности и противоаварийная устойчивость предприятий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5" name="Прямоугольник 5"/>
          <p:cNvSpPr/>
          <p:nvPr/>
        </p:nvSpPr>
        <p:spPr>
          <a:xfrm>
            <a:off x="395280" y="693720"/>
            <a:ext cx="8353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 целях обеспечения готовности организаций, эксплуатирующих опасные производственные объекты, к действиям по локализации и ликвидации последствий аварий, на всех ОПО разработан план мероприятий по локализации и ликвидации последствий аварий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существляется контроль за проведением учебных тревог, в том числе при проведении постоянного государственного надзора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се предприятия имеют договор аварийного прикрытия с аварийно-спасательными формированиями (АСФ) или аварийно-спасательными службами (АСС). У некоторых предприятий имеются собственные АСС или АСФ в виде отдельных подразделений или отдельных юридических лиц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скольку, нормативные документы по деятельности газоспасательных служб имеют рекомендательный характер и не входят в приказ Ростехнадзора от 02.03.2021 № 81 «Об утверждении перечней нормативных правовых актов (их отдельных положений), содержащих обязательные требования, оценка соблюдения которых осуществляется в рамках государственного контроля (надзора), привлечения к административной ответственности», -  деятельность таких служб не подлежит проверке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отивоаварийную устойчивость опасных производственных объектов, поднадзорных межрегиональному отделу металлургического надзора Уральского управления Ростехнадзора можно охарактеризовать, как – удовлетворительную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995280" y="1125000"/>
            <a:ext cx="547236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СПАСИБО ЗА ВНИМАНИЕ</a:t>
            </a:r>
            <a:endParaRPr b="0" lang="en-US" sz="40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"/>
          <p:cNvPicPr/>
          <p:nvPr/>
        </p:nvPicPr>
        <p:blipFill>
          <a:blip r:embed="rId1"/>
          <a:srcRect l="3750" t="13675" r="13931" b="10567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65" name="Диаграмма 4" descr=""/>
          <p:cNvPicPr/>
          <p:nvPr/>
        </p:nvPicPr>
        <p:blipFill>
          <a:blip r:embed="rId2"/>
          <a:stretch/>
        </p:blipFill>
        <p:spPr>
          <a:xfrm>
            <a:off x="57240" y="150840"/>
            <a:ext cx="5683320" cy="6727680"/>
          </a:xfrm>
          <a:prstGeom prst="rect">
            <a:avLst/>
          </a:prstGeom>
          <a:ln w="0">
            <a:noFill/>
          </a:ln>
        </p:spPr>
      </p:pic>
      <p:sp>
        <p:nvSpPr>
          <p:cNvPr id="566" name="TextBox 1"/>
          <p:cNvSpPr/>
          <p:nvPr/>
        </p:nvSpPr>
        <p:spPr>
          <a:xfrm>
            <a:off x="4067280" y="118908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спределение ОПО по классам опасности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7" name="Прямоугольник 6"/>
          <p:cNvSpPr/>
          <p:nvPr/>
        </p:nvSpPr>
        <p:spPr>
          <a:xfrm>
            <a:off x="-27000" y="23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Характеристика поднадзорных производств и объектов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15640" y="274680"/>
            <a:ext cx="698652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01.06.2024 г. на территории Уральского управления Ростехнадзора </a:t>
            </a:r>
            <a:br>
              <a:rPr sz="1600"/>
            </a:b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 </a:t>
            </a: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классом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асности зарегистрировано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 ОПО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надзорных металлургическому надзору (объекты постоянного надзора)</a:t>
            </a:r>
            <a:endParaRPr b="0" lang="en-US" sz="1600" spc="-1" strike="noStrike">
              <a:solidFill>
                <a:srgbClr val="002060"/>
              </a:solidFill>
              <a:latin typeface="Cambria"/>
            </a:endParaRPr>
          </a:p>
        </p:txBody>
      </p:sp>
      <p:pic>
        <p:nvPicPr>
          <p:cNvPr id="569" name="Picture 4" descr=""/>
          <p:cNvPicPr/>
          <p:nvPr/>
        </p:nvPicPr>
        <p:blipFill>
          <a:blip r:embed="rId1"/>
          <a:srcRect l="3452" t="25051" r="49963" b="36474"/>
          <a:stretch/>
        </p:blipFill>
        <p:spPr>
          <a:xfrm>
            <a:off x="1116000" y="1459080"/>
            <a:ext cx="6986520" cy="46083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570" name="Прямоугольник 3"/>
          <p:cNvSpPr/>
          <p:nvPr/>
        </p:nvSpPr>
        <p:spPr>
          <a:xfrm>
            <a:off x="0" y="44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Характеристика поднадзорных производств и объектов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Рисунок 6" descr=""/>
          <p:cNvPicPr/>
          <p:nvPr/>
        </p:nvPicPr>
        <p:blipFill>
          <a:blip r:embed="rId1"/>
          <a:stretch/>
        </p:blipFill>
        <p:spPr>
          <a:xfrm>
            <a:off x="-757080" y="307800"/>
            <a:ext cx="2993760" cy="160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2" name=""/>
          <p:cNvGraphicFramePr/>
          <p:nvPr/>
        </p:nvGraphicFramePr>
        <p:xfrm>
          <a:off x="434880" y="5229360"/>
          <a:ext cx="8345520" cy="1269720"/>
        </p:xfrm>
        <a:graphic>
          <a:graphicData uri="http://schemas.openxmlformats.org/drawingml/2006/table">
            <a:tbl>
              <a:tblPr/>
              <a:tblGrid>
                <a:gridCol w="1328760"/>
                <a:gridCol w="3775320"/>
                <a:gridCol w="32414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едприятие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тепень травмирования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</a:tr>
              <a:tr h="333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23.02.2023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60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АО «Завод Уралпрокат»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Тяжелый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285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06.04.2023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60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ПАО «ММК»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Тяжелый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28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02.05.2023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60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AO</a:t>
                      </a: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 «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ЕВРАЗ НТМК»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Групповой</a:t>
                      </a: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 (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1тяжёлый+1лёгкий</a:t>
                      </a: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)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</a:tbl>
          </a:graphicData>
        </a:graphic>
      </p:graphicFrame>
      <p:sp>
        <p:nvSpPr>
          <p:cNvPr id="573" name="Прямоугольник 1"/>
          <p:cNvSpPr/>
          <p:nvPr/>
        </p:nvSpPr>
        <p:spPr>
          <a:xfrm>
            <a:off x="380880" y="4797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Количество несчастных случаев за аналогичный период 2023 года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4" name="Прямоугольник 2"/>
          <p:cNvSpPr/>
          <p:nvPr/>
        </p:nvSpPr>
        <p:spPr>
          <a:xfrm>
            <a:off x="250920" y="17319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Количество несчастных случаев с 1 января по 1 июня 2024 года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5" name="Прямоугольник 12"/>
          <p:cNvSpPr/>
          <p:nvPr/>
        </p:nvSpPr>
        <p:spPr>
          <a:xfrm>
            <a:off x="-27000" y="123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казатели аварийности и производственного травматизма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431640" y="2152800"/>
          <a:ext cx="8352000" cy="2625480"/>
        </p:xfrm>
        <a:graphic>
          <a:graphicData uri="http://schemas.openxmlformats.org/drawingml/2006/table">
            <a:tbl>
              <a:tblPr/>
              <a:tblGrid>
                <a:gridCol w="1314720"/>
                <a:gridCol w="3578040"/>
                <a:gridCol w="3459240"/>
              </a:tblGrid>
              <a:tr h="70380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едприятие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тепень травмирования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</a:tr>
              <a:tr h="40032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08.01.2024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ООО «ЗМЗ»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Смертельный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24804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09.01.2024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ПАО «ММК»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Тяжелый 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42300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15.01.2024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marL="444600" algn="just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АО «ПРОМ-СОРТ Урал» (расследование       продолжается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Тяжелый 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24804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16.01.2024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АО «УММ-2» 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Тяжелый 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24804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12.03.2024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ООО «КЛЗ» 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Тяжелый 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24804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03.05.2024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ООО «АЛМЕТ» (расследование продолжается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Тяжелый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78" name="Диаграмма 3" descr=""/>
          <p:cNvPicPr/>
          <p:nvPr/>
        </p:nvPicPr>
        <p:blipFill>
          <a:blip r:embed="rId1"/>
          <a:stretch/>
        </p:blipFill>
        <p:spPr>
          <a:xfrm>
            <a:off x="200160" y="255600"/>
            <a:ext cx="8743680" cy="6222960"/>
          </a:xfrm>
          <a:prstGeom prst="rect">
            <a:avLst/>
          </a:prstGeom>
          <a:ln w="0">
            <a:noFill/>
          </a:ln>
        </p:spPr>
      </p:pic>
      <p:sp>
        <p:nvSpPr>
          <p:cNvPr id="579" name="Прямоугольник 4"/>
          <p:cNvSpPr/>
          <p:nvPr/>
        </p:nvSpPr>
        <p:spPr>
          <a:xfrm>
            <a:off x="0" y="122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казатели аварийности и производственного травматизма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Прямоугольник 6"/>
          <p:cNvSpPr/>
          <p:nvPr/>
        </p:nvSpPr>
        <p:spPr>
          <a:xfrm>
            <a:off x="2135880" y="642960"/>
            <a:ext cx="481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ООО «Златоустовский металлургический завод»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1" name="Прямоугольник 11"/>
          <p:cNvSpPr/>
          <p:nvPr/>
        </p:nvSpPr>
        <p:spPr>
          <a:xfrm>
            <a:off x="108000" y="1125360"/>
            <a:ext cx="8928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08.01.2024 г. произошел несчастный случай со смертельным исходом вальцовщиком стана горячей прокатки.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После окончания проката на клети № 1 вальцовщик стана горячей прокатки, не подав сигнал операторам поста управления клетями № 1 и № 2, и не включив блокировку рольганга 3-го стола, начал производить настройку проводок 2 клети. Завершив работу, направился от клети № 2, но потерял равновесие, в результате чего рука попала между валками в верхний горизонт. Оператор поста управления клети № 2 стана горячей прокатки увидел в верхнем горизонте и закричал оператору поста управления клети № 1, чтобы он остановил стан. Мастер, работающий оператором поста управления клети № 1, остановил стан. Вальцовщик стана горячей прокатки услышал, что стан остановился, повернулся к клети № 2 и увидел зажатого между клетей вальцовщика стана горячей прокатки, который скончался на месте происшествия.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2" name="Прямоугольник 9"/>
          <p:cNvSpPr/>
          <p:nvPr/>
        </p:nvSpPr>
        <p:spPr>
          <a:xfrm>
            <a:off x="-41400" y="123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писание обстоятельств и причин несчастных случаев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3" name="Прямоугольник 2"/>
          <p:cNvSpPr/>
          <p:nvPr/>
        </p:nvSpPr>
        <p:spPr>
          <a:xfrm>
            <a:off x="3852000" y="409896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ПАО «ММК»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4" name="Прямоугольник 4"/>
          <p:cNvSpPr/>
          <p:nvPr/>
        </p:nvSpPr>
        <p:spPr>
          <a:xfrm>
            <a:off x="141120" y="4437000"/>
            <a:ext cx="88617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09.01.2024 г. в 17:30 произошел тяжелый несчастный случай с нагревальщиком металла.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9 января 2024 года в 17 часов 30 минут на стане 450 нагревальщик металла производил удаление запутавшейся проволоки из вязальной машины № 1 при помощи ручных ножниц. Не сумев удалить проволоку, находясь на полу, поднялся на технологические выступы сбоку рольганга, а после левой ногой перелез на рольганг. При заходе в вязальную машину № 1 пачка металла сбила, находившегося левой ногой на рольганге нагревальщика и вывезла его между вязальными машинами №№ 1 и 2. Оператор ПУ-3, увидев нагревальщика на мониторе камеры слежения на рольганге между вязальными машинами, незамедлительно остановил загрузку участка, нажав кнопку остановки. Работники стана помогли нагревальщику выбраться с рольганга, после чего он был доставлен в Центральную клиническая медико-санитарная часть» г. Магнитогорска. Степень тяжести определена, как тяжелая.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Прямоугольник 9"/>
          <p:cNvSpPr/>
          <p:nvPr/>
        </p:nvSpPr>
        <p:spPr>
          <a:xfrm>
            <a:off x="-4140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писание обстоятельств и причин несчастных случаев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6" name="Прямоугольник 1"/>
          <p:cNvSpPr/>
          <p:nvPr/>
        </p:nvSpPr>
        <p:spPr>
          <a:xfrm>
            <a:off x="3138840" y="550800"/>
            <a:ext cx="28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AO «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ОМ-СОРТ Урал»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7" name="Прямоугольник 2"/>
          <p:cNvSpPr/>
          <p:nvPr/>
        </p:nvSpPr>
        <p:spPr>
          <a:xfrm>
            <a:off x="85680" y="981000"/>
            <a:ext cx="8928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15.01.2024 в 20 ч. 30 на опасном производственном объекте «Цех электросталеплавильный металлургического производства» произошел тяжелый несчастный случай с подручным сталевара электропечи ЭСПЦ-1.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Подручный сталевара электропечи совместно с машинистом крана металлургического производства производили работы по перемещению крышки для малого свода ДСП на резервный свод с применением подъемного сооружения (мостового крана). После установки крышки на резервный свод подручный сталевара отцепил съемное грузозахватное приспособление от крышки малого свода. Машинист крана осуществил подъем крюка и начал движение моста крана. При перемещении по малому своду подручный сталевара упал спиной вперед на площадку резервного свода ДСП-2, при падении он ударился головой об ограждение (перила) стенда для хранения резервного свода.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8" name="Прямоугольник 3"/>
          <p:cNvSpPr/>
          <p:nvPr/>
        </p:nvSpPr>
        <p:spPr>
          <a:xfrm>
            <a:off x="3771000" y="33577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AO «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УММ-2»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9" name="Прямоугольник 5"/>
          <p:cNvSpPr/>
          <p:nvPr/>
        </p:nvSpPr>
        <p:spPr>
          <a:xfrm>
            <a:off x="179280" y="3860640"/>
            <a:ext cx="883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16 января 2024 года в 13:30 произошел тяжелый несчастный случай с монтажником технологического оборудования и связанных с ним конструкций.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Примерно в 13.10 - 13.20 двое монтажников технологического оборудования и связанных с ним конструкций (далее – монтажники) поднялись по стационарным лестницам на стационарную площадку, расположенную на отм. +10,69 м чтобы визуально осмотреть безопасные пути следования к месту производства работ по демонтажу газохода. Завершив осмотр, один из монтажников направился вниз, спустившись на нулевую отметку -  услышал крик, побежал наверх выяснить причину крика, но не найдя там коллегу поспешил на нулевую отметку доложить электрогазосварщику ручной сварки СРМУ-6. Поднявшись наверх для поиска монтажника его обнаружили на стационарной площадке на 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отм. + 6,160 м. лежавшего на площадке в сознании, на левом боку. В результате падения получил тяжелые травмы.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Прямоугольник 4"/>
          <p:cNvSpPr/>
          <p:nvPr/>
        </p:nvSpPr>
        <p:spPr>
          <a:xfrm>
            <a:off x="1996560" y="369720"/>
            <a:ext cx="50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ambria"/>
              </a:rPr>
              <a:t>ООО «Катав-Ивановский литейный завод»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1" name="Прямоугольник 8"/>
          <p:cNvSpPr/>
          <p:nvPr/>
        </p:nvSpPr>
        <p:spPr>
          <a:xfrm>
            <a:off x="324000" y="746280"/>
            <a:ext cx="8640720" cy="35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19 марта 2024 года в 12:40 произошел тяжелый несчастный случай со слесарем-ремонтником.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Механик дал задание трем слесарям-ремонтникам на выполнение ремонтных работ по монтажу выпускной крышки люка на бегунах смешивающих литейных с вертикально вращающимися катками, модели 1А11М. После установки крышки, один из слесарей-ремонтников залез во внутрь кожуха смешивающих бегунов, и сидя на корточках, стал рассматривать плотность прилегания крышки люка. Слесарю-ремонтнику Щербакову А.В. показали кнопку на пульте управления, на которую надо нажать, с целью открытия выпускного люка. В это время третий слесарь-ремонтник направился наблюдать за работой напарника снаружи, с окна, которое находится с противоположной стороны бегунов. После команды первого, Щербаков А.В. нажал кнопку, запустившую механизм вращения бегунов. В результате запуска бегунов, вращающихся частей устройства, слесарю-ремонтнику литейного цеха находящемуся внутри кожуха устройства, были причинены телесные повреждения.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2" name="Прямоугольник 9"/>
          <p:cNvSpPr/>
          <p:nvPr/>
        </p:nvSpPr>
        <p:spPr>
          <a:xfrm>
            <a:off x="-4140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писание обстоятельств и причин несчастных случаев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3" name="Прямоугольник 2"/>
          <p:cNvSpPr/>
          <p:nvPr/>
        </p:nvSpPr>
        <p:spPr>
          <a:xfrm>
            <a:off x="3669840" y="432576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ambria"/>
              </a:rPr>
              <a:t>ООО «АЛМЕТ»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4" name="Прямоугольник 3"/>
          <p:cNvSpPr/>
          <p:nvPr/>
        </p:nvSpPr>
        <p:spPr>
          <a:xfrm>
            <a:off x="324000" y="4869000"/>
            <a:ext cx="864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03.05.2024 произошел тяжелый несчастный случай с плавильщиком металла и сплавов.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03.05.2024 в 5.00 утра в литейном цехе ООО «АЛМЕТ» плавильщик металла и сплавов на печной площадке оступился, попал правой ногой в тигель печи, получив ожог ноги. Травмированный был госпитализирован бригадой скорой помощи.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05:35:47Z</dcterms:created>
  <dc:creator>ОПО</dc:creator>
  <dc:description/>
  <dc:language>en-US</dc:language>
  <cp:lastModifiedBy>Романовских Владислав Дмитриевич</cp:lastModifiedBy>
  <dcterms:modified xsi:type="dcterms:W3CDTF">2024-06-05T11:10:03Z</dcterms:modified>
  <cp:revision>614</cp:revision>
  <dc:subject/>
  <dc:title>Презентация PowerPoint</dc:title>
</cp:coreProperties>
</file>