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3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ftr" idx="38"/>
          </p:nvPr>
        </p:nvSpPr>
        <p:spPr>
          <a:xfrm>
            <a:off x="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 type="sldNum" idx="39"/>
          </p:nvPr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E96B-031F-40AE-8592-C3EBE57B55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Номер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F001-EF2B-4077-9BFE-4B736FE18E1C}" type="slidenum">
              <a:rPr b="0" lang="ru-RU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Номер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539B-ABB9-4AAD-85EB-6EB2F956BC97}" type="slidenum">
              <a:rPr b="0" lang="ru-RU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9FB7-EF10-4CF8-9702-75FAE17D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CAD6-D1C2-4925-9DEF-A60E2119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58336-6A79-4E74-A05B-C35DB666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CDEAA-095B-4D81-87DE-49CD42D9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E830F-BD45-4C8D-B571-5F11CC39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D0B42-467F-4BEF-A809-338A28D3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B1C32-E305-4B66-A54F-8641B0FC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9E235-9AE0-4683-AE0C-74568D7E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D18AA-DB03-404E-A753-ABBF0E4C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3D48D-B59E-4E0E-9F54-A8987A29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6A647-08BB-48BC-AE57-043A0852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E1C31-5980-483C-ACFB-DB3B26D8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525B-9447-489B-909B-83ED5BEA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CB92E-ADB5-4A81-93C8-0160E43D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69C97-7E19-4C7F-8BF9-CB58AF46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50892-ED53-4DDA-A88D-044C19A2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2BEE2-F45E-4A67-86E5-1C743CF0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0E15A-9CB6-40B2-A3E4-BC241921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2ADD1-5C95-407E-8442-BABB70B4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544C7-48ED-471A-A226-346075EE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49F6B-3879-4581-B292-2F214E8E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94898-882C-442F-81B1-F0BD465B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7444A-7A88-4B73-B80F-191681B5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391C-E57B-4560-A6E8-6F0359C8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4B5AA-E8C1-4A32-8CE5-72244D3D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F89A5-AE12-4F99-BA05-AC70358E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AFDCB-8536-4DB3-A8B3-7493BCFD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E3606-E578-4ACA-A3B7-8B258B54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99FA4-6E64-44D2-AC08-4A8C163B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3D2B1-3116-4D49-BA9C-F567B0CB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FF84C-54A8-4412-80B1-54506B0E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6A63D-97AF-41CB-B6F0-D9302D17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72267-8E56-41BA-8077-85C94470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1775E-AFC3-4703-B354-93893EF8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B035-9E7F-48EE-91DD-C78B054B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CC5C8-4D2D-4E7C-A5DC-F106FA91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4A18D-EA5F-414F-AD02-56ABBD7E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D8D54-AFCE-41D7-8965-98D7AF50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7E8F6-6A10-4107-8EF9-29CBC7C9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4492E-F920-4CDC-82D8-03EE5871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F406D-E7E3-4AE9-BB65-C6C360B3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EBB270-2542-471E-B8A6-7677A92F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185B0-1D11-49D6-880E-CAB0F37B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DFD54-6AE9-40A9-A79E-5D9676C0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4551A-CBE1-4600-B50B-61F0D14A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F12A-8A9B-4793-9B65-74D9D2B5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59ADA-912F-45DB-AFFC-AB25220C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6FED7-95B4-4D2E-8A5C-983BEB2A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46A05-1000-4B07-96B9-E6C8B362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94AA4-F4BF-4B65-AB5A-E45B3F57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8031C-492F-4D23-9E88-FE57335D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D515-38ED-4289-B2FE-C5566655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6230-1A8E-4D7D-8F9F-6263EBE0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249D-6DF6-419B-82D5-6C8BE203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857E-8CF2-4E3C-9A39-8806B901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77B2-6AF2-473A-8DF3-A55E41C0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4FD1-C43D-4A24-A71A-BE1A5907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5A42-2B1E-4DF9-BF2E-94EAC2C7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0440-E0B7-47CA-86E5-3C17A7E4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B74B-E44A-482B-AB56-53B4436B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BCA0-990A-4434-808F-C803D7DF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DABB-4E81-4704-ADA0-9D17195F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417D4-BDE9-4DC7-ACB7-C87C2B7A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4C89E-BC54-4F33-8A9D-EF3897E6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D1B54-EB15-4455-8CE4-CC086297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FD8B0-F1D3-4A0A-8E2B-1DFA63A5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12E23-8A81-4B2F-8C4A-ECEA4FA5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E3FF-CA24-4EF2-AAFA-3716982A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DE74F-CE41-4A0E-8E8B-AF4C7A25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D6258-7CC3-48A8-A765-0D9223D6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B733B-2778-4823-9E83-7A4AF74F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6B9D2-F16F-40B8-9F60-E0D76CA4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F08CB-9E80-4630-BB76-110EED61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CAF38-996A-4512-B2FB-E11BCCF3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AE646-1949-44AE-BE86-A415E713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3E744-D4B2-4B88-9FEB-15B0C375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6BE9E-E269-48E5-9098-C94DF674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AEF19-9489-4703-A3F7-4E8624F0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8AE-31DC-404D-A2E9-4A4271D3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9A6CD-A624-41B2-9B65-C1B659E2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A122A-3104-44EC-986C-DD6398C7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45D37-6DF9-4800-AD90-61C7A214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5A26D-8B34-4323-A3A4-800F83AD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66C9F-78C9-4FC5-B1A5-0133AC7C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169FD-22DB-467D-8DC1-3E154A37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A56CD-7944-4720-A46F-088D02FC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D3A24-3B4F-4C20-8315-1D4BEEB6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5829B-44A6-4261-B336-190FA04D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E90E9-38DB-44A4-A827-CEF53A43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CFE0-2888-4428-93D0-8FCC074B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EF749-4987-47B6-A1B5-0A0F90F6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F4BBB-9234-438A-AAEE-6FB920C1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66C42-19FA-433D-94D5-0EB41ED5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B350B-F915-4C04-ACBE-5D242ED0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D2C4A-8A3C-45EF-B22D-DC062660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117A7-73E8-4339-AD63-6087E417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604F6-BA5D-40A9-ACB5-73713AC7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CC163-3F83-44AB-96F6-1EF7976C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C3D80-3D93-42D5-A850-85458773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931B0-9F6A-49DC-9159-A52A0553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BB4B-3F7B-49D3-8EEA-9CC89826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51EA4-9A62-4DE9-99C6-0E3E44D5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65CE9-DEAD-4CED-A705-B13CB0F1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81A5F-A69E-4889-B281-604753A9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1FA99-536E-4502-88F2-B821491C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0CBDF-F0C9-40FD-AF4C-C0B1CE9E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FA973-89C2-43EA-A902-BA1FEDA2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EBB72-7854-4287-85C6-2A39BA1F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2A8FD-6E04-4EB6-9C1E-3E670415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B517C-3B25-49FA-8D53-78DA9572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07B6A-6B2D-4BA3-908C-D89F2F5B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D384-D9FA-4DED-8E7F-674DEF6D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44B5B-31DE-4296-9C3F-B2E1BD99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EF3ED-934C-44F8-BDDC-F3A46BEC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EC6EE-0958-4B47-B4D0-F293F5FC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C7369-D7B1-4934-9D9D-424BFDCB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C2E3F-2616-4B3B-BEAF-383434B3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716F2-611B-44DB-AB01-FA45670D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EBFE0-8CFB-447C-BF33-B6E7C186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54EB1-723A-4A72-88D6-105F3DBB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A1D86-566E-408A-8A55-FEA2F467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E3F5A-F18E-463C-AFE8-EB303F83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34BA-9AB6-4B25-9299-AFA612AD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50ACF-5A9C-43BD-8B63-032DAFE3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313CD-2432-4ED2-9E85-5EF23C10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750A1-2905-444C-B247-7631F283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B1D87-9FB6-4EA1-91FD-D2B240D0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73709-9997-4C5D-81DA-A770350F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27FE4-583F-4057-B16D-FD3A0CD0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58D87-196F-4232-B051-A146E42E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76082-2CE9-4E1A-A572-F6D0ABCE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ED1FA-D96B-4DC1-89D2-B06EBDF3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0E5A8-2CAB-4223-AFC5-D5F936BD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5282-54E7-4963-818C-2DB3C711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856F7-86C3-4D66-B878-E9EF3793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2E97F-CC77-45D5-8A6C-8EB03194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DA8B1-A425-422F-954D-F10CEE71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3B41E-241E-4781-A47E-99332280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18519-CD69-4446-A659-93E0ED57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EDE38-70DA-4DC5-AA1C-FE445A60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C9ECA-C388-45DC-86FF-40443CB1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9BA6B-446E-41F3-B9EF-2427114A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259B0-3A81-4047-8136-C6F21E13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70E05-55D2-4424-BE4B-8D002392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095520"/>
            <a:ext cx="1523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120" y="6095520"/>
            <a:ext cx="3124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2440" y="53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D3E5-3115-49D7-AF9D-F61BA3CD37FD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Rounded Rectangle 14"/>
          <p:cNvSpPr/>
          <p:nvPr/>
        </p:nvSpPr>
        <p:spPr>
          <a:xfrm rot="900000">
            <a:off x="-533160" y="-979560"/>
            <a:ext cx="6672240" cy="6821640"/>
          </a:xfrm>
          <a:custGeom>
            <a:avLst/>
            <a:gdLst/>
            <a:ahLst/>
            <a:rect l="l" t="t" r="r" b="b"/>
            <a:pathLst>
              <a:path w="6672870" h="6821601">
                <a:moveTo>
                  <a:pt x="0" y="1787990"/>
                </a:moveTo>
                <a:lnTo>
                  <a:pt x="6672870" y="0"/>
                </a:lnTo>
                <a:lnTo>
                  <a:pt x="6672870" y="6739511"/>
                </a:lnTo>
                <a:cubicBezTo>
                  <a:pt x="6672870" y="6784848"/>
                  <a:pt x="6636117" y="6821601"/>
                  <a:pt x="6590780" y="6821601"/>
                </a:cubicBezTo>
                <a:lnTo>
                  <a:pt x="1348753" y="6821601"/>
                </a:lnTo>
                <a:lnTo>
                  <a:pt x="0" y="178799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2" name="Rounded Rectangle 15"/>
          <p:cNvSpPr/>
          <p:nvPr/>
        </p:nvSpPr>
        <p:spPr>
          <a:xfrm rot="900000">
            <a:off x="-283680" y="5968800"/>
            <a:ext cx="5300640" cy="1496880"/>
          </a:xfrm>
          <a:custGeom>
            <a:avLst/>
            <a:gdLst/>
            <a:ahLst/>
            <a:rect l="l" t="t" r="r" b="b"/>
            <a:pathLst>
              <a:path w="5300494" h="1495954">
                <a:moveTo>
                  <a:pt x="0" y="0"/>
                </a:moveTo>
                <a:lnTo>
                  <a:pt x="5218404" y="0"/>
                </a:lnTo>
                <a:cubicBezTo>
                  <a:pt x="5263741" y="0"/>
                  <a:pt x="5300494" y="36753"/>
                  <a:pt x="5300494" y="82090"/>
                </a:cubicBezTo>
                <a:lnTo>
                  <a:pt x="5300494" y="183095"/>
                </a:lnTo>
                <a:lnTo>
                  <a:pt x="400840" y="1495954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3" name="Rounded Rectangle 16"/>
          <p:cNvSpPr/>
          <p:nvPr/>
        </p:nvSpPr>
        <p:spPr>
          <a:xfrm rot="900000">
            <a:off x="6931080" y="-242640"/>
            <a:ext cx="2433600" cy="1384560"/>
          </a:xfrm>
          <a:custGeom>
            <a:avLst/>
            <a:gdLst/>
            <a:ahLst/>
            <a:rect l="l" t="t" r="r" b="b"/>
            <a:pathLst>
              <a:path w="2434235" h="1383623">
                <a:moveTo>
                  <a:pt x="0" y="552912"/>
                </a:moveTo>
                <a:lnTo>
                  <a:pt x="2063495" y="0"/>
                </a:lnTo>
                <a:lnTo>
                  <a:pt x="2434235" y="1383623"/>
                </a:lnTo>
                <a:lnTo>
                  <a:pt x="82090" y="1383622"/>
                </a:lnTo>
                <a:cubicBezTo>
                  <a:pt x="36754" y="1383622"/>
                  <a:pt x="0" y="1346869"/>
                  <a:pt x="0" y="1301533"/>
                </a:cubicBezTo>
                <a:lnTo>
                  <a:pt x="0" y="552912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4" name="Rounded Rectangle 17"/>
          <p:cNvSpPr/>
          <p:nvPr/>
        </p:nvSpPr>
        <p:spPr>
          <a:xfrm rot="900000">
            <a:off x="5899320" y="1282680"/>
            <a:ext cx="3843000" cy="6178680"/>
          </a:xfrm>
          <a:custGeom>
            <a:avLst/>
            <a:gdLst/>
            <a:ahLst/>
            <a:rect l="l" t="t" r="r" b="b"/>
            <a:pathLst>
              <a:path w="3842742" h="617845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463128" y="0"/>
                </a:lnTo>
                <a:lnTo>
                  <a:pt x="3842742" y="5148790"/>
                </a:lnTo>
                <a:lnTo>
                  <a:pt x="0" y="6178450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 rot="900000">
            <a:off x="6992280" y="5713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 rot="900000">
            <a:off x="647280" y="5161680"/>
            <a:ext cx="2976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 rot="900000">
            <a:off x="7046640" y="390600"/>
            <a:ext cx="196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7D9E-CA3F-4090-9228-10B8732F5D24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Rounded Rectangle 11"/>
          <p:cNvSpPr/>
          <p:nvPr/>
        </p:nvSpPr>
        <p:spPr>
          <a:xfrm rot="20707200">
            <a:off x="-894960" y="-766800"/>
            <a:ext cx="8332920" cy="5894280"/>
          </a:xfrm>
          <a:custGeom>
            <a:avLst/>
            <a:gdLst/>
            <a:ahLst/>
            <a:rect l="l" t="t" r="r" b="b"/>
            <a:pathLst>
              <a:path w="8332816" h="5894380">
                <a:moveTo>
                  <a:pt x="1565164" y="0"/>
                </a:moveTo>
                <a:lnTo>
                  <a:pt x="8332816" y="1797049"/>
                </a:lnTo>
                <a:lnTo>
                  <a:pt x="8332816" y="5812290"/>
                </a:lnTo>
                <a:cubicBezTo>
                  <a:pt x="8332816" y="5857627"/>
                  <a:pt x="8296063" y="5894380"/>
                  <a:pt x="8250726" y="5894380"/>
                </a:cubicBezTo>
                <a:lnTo>
                  <a:pt x="0" y="5894380"/>
                </a:lnTo>
                <a:lnTo>
                  <a:pt x="1565164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8" name="Rounded Rectangle 12"/>
          <p:cNvSpPr/>
          <p:nvPr/>
        </p:nvSpPr>
        <p:spPr>
          <a:xfrm rot="20707200">
            <a:off x="65160" y="5089320"/>
            <a:ext cx="8528040" cy="2911320"/>
          </a:xfrm>
          <a:custGeom>
            <a:avLst/>
            <a:gdLst/>
            <a:ahLst/>
            <a:rect l="l" t="t" r="r" b="b"/>
            <a:pathLst>
              <a:path w="8528044" h="2911464">
                <a:moveTo>
                  <a:pt x="8477907" y="6451"/>
                </a:moveTo>
                <a:cubicBezTo>
                  <a:pt x="8507371" y="18913"/>
                  <a:pt x="8528044" y="48087"/>
                  <a:pt x="8528044" y="82090"/>
                </a:cubicBezTo>
                <a:lnTo>
                  <a:pt x="8528044" y="2911464"/>
                </a:lnTo>
                <a:lnTo>
                  <a:pt x="0" y="646970"/>
                </a:lnTo>
                <a:lnTo>
                  <a:pt x="171794" y="0"/>
                </a:lnTo>
                <a:lnTo>
                  <a:pt x="8445954" y="0"/>
                </a:lnTo>
                <a:cubicBezTo>
                  <a:pt x="8457288" y="0"/>
                  <a:pt x="8468086" y="2297"/>
                  <a:pt x="8477907" y="645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9" name="Rounded Rectangle 13"/>
          <p:cNvSpPr/>
          <p:nvPr/>
        </p:nvSpPr>
        <p:spPr>
          <a:xfrm rot="20707200">
            <a:off x="8534160" y="3839760"/>
            <a:ext cx="1011240" cy="2994120"/>
          </a:xfrm>
          <a:custGeom>
            <a:avLst/>
            <a:gdLst/>
            <a:ahLst/>
            <a:rect l="l" t="t" r="r" b="b"/>
            <a:pathLst>
              <a:path w="1011244" h="2994350">
                <a:moveTo>
                  <a:pt x="1011244" y="0"/>
                </a:moveTo>
                <a:lnTo>
                  <a:pt x="216140" y="2994350"/>
                </a:lnTo>
                <a:lnTo>
                  <a:pt x="0" y="2936957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011244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0" name="Rounded Rectangle 14"/>
          <p:cNvSpPr/>
          <p:nvPr/>
        </p:nvSpPr>
        <p:spPr>
          <a:xfrm rot="20707200">
            <a:off x="7587720" y="-321840"/>
            <a:ext cx="1976760" cy="4073400"/>
          </a:xfrm>
          <a:custGeom>
            <a:avLst/>
            <a:gdLst/>
            <a:ahLst/>
            <a:rect l="l" t="t" r="r" b="b"/>
            <a:pathLst>
              <a:path w="1976541" h="4072806">
                <a:moveTo>
                  <a:pt x="0" y="0"/>
                </a:moveTo>
                <a:lnTo>
                  <a:pt x="1976541" y="524841"/>
                </a:lnTo>
                <a:lnTo>
                  <a:pt x="1034432" y="4072806"/>
                </a:lnTo>
                <a:lnTo>
                  <a:pt x="82090" y="4072806"/>
                </a:lnTo>
                <a:cubicBezTo>
                  <a:pt x="36753" y="4072806"/>
                  <a:pt x="0" y="4036053"/>
                  <a:pt x="0" y="3990716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 rot="20700000">
            <a:off x="6995880" y="62384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 rot="20700000">
            <a:off x="5320800" y="609444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 rot="20700000">
            <a:off x="8182080" y="3246480"/>
            <a:ext cx="90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87AA-FFD9-4140-9C0A-DE1DC974D2F1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ounded Rectangle 11"/>
          <p:cNvSpPr/>
          <p:nvPr/>
        </p:nvSpPr>
        <p:spPr>
          <a:xfrm rot="20707200">
            <a:off x="-882720" y="-625320"/>
            <a:ext cx="7440840" cy="7346880"/>
          </a:xfrm>
          <a:custGeom>
            <a:avLst/>
            <a:gdLst/>
            <a:ahLst/>
            <a:rect l="l" t="t" r="r" b="b"/>
            <a:pathLst>
              <a:path w="7440156" h="7347127">
                <a:moveTo>
                  <a:pt x="1760047" y="0"/>
                </a:moveTo>
                <a:lnTo>
                  <a:pt x="7440156" y="1508269"/>
                </a:lnTo>
                <a:lnTo>
                  <a:pt x="7440156" y="7265037"/>
                </a:lnTo>
                <a:cubicBezTo>
                  <a:pt x="7440156" y="7310374"/>
                  <a:pt x="7403403" y="7347127"/>
                  <a:pt x="7358066" y="7347127"/>
                </a:cubicBezTo>
                <a:lnTo>
                  <a:pt x="2707078" y="7347127"/>
                </a:lnTo>
                <a:lnTo>
                  <a:pt x="0" y="6628304"/>
                </a:lnTo>
                <a:lnTo>
                  <a:pt x="1760047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4" name="Rounded Rectangle 12"/>
          <p:cNvSpPr/>
          <p:nvPr/>
        </p:nvSpPr>
        <p:spPr>
          <a:xfrm rot="20707200">
            <a:off x="3227400" y="6273360"/>
            <a:ext cx="4395600" cy="1168560"/>
          </a:xfrm>
          <a:custGeom>
            <a:avLst/>
            <a:gdLst/>
            <a:ahLst/>
            <a:rect l="l" t="t" r="r" b="b"/>
            <a:pathLst>
              <a:path w="4396677" h="1167472">
                <a:moveTo>
                  <a:pt x="4346539" y="6451"/>
                </a:moveTo>
                <a:cubicBezTo>
                  <a:pt x="4376003" y="18913"/>
                  <a:pt x="4396677" y="48087"/>
                  <a:pt x="4396677" y="82090"/>
                </a:cubicBezTo>
                <a:lnTo>
                  <a:pt x="4396677" y="1167472"/>
                </a:lnTo>
                <a:lnTo>
                  <a:pt x="0" y="0"/>
                </a:lnTo>
                <a:lnTo>
                  <a:pt x="4314586" y="0"/>
                </a:lnTo>
                <a:cubicBezTo>
                  <a:pt x="4325920" y="0"/>
                  <a:pt x="4336718" y="2297"/>
                  <a:pt x="4346539" y="6451"/>
                </a:cubicBez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5" name="Rounded Rectangle 13"/>
          <p:cNvSpPr/>
          <p:nvPr/>
        </p:nvSpPr>
        <p:spPr>
          <a:xfrm rot="20707200">
            <a:off x="7659720" y="5459040"/>
            <a:ext cx="1709640" cy="1538280"/>
          </a:xfrm>
          <a:custGeom>
            <a:avLst/>
            <a:gdLst/>
            <a:ahLst/>
            <a:rect l="l" t="t" r="r" b="b"/>
            <a:pathLst>
              <a:path w="1710569" h="1538689">
                <a:moveTo>
                  <a:pt x="1710569" y="1"/>
                </a:moveTo>
                <a:lnTo>
                  <a:pt x="1301993" y="1538689"/>
                </a:lnTo>
                <a:lnTo>
                  <a:pt x="0" y="1192965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10569" y="1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6" name="Rounded Rectangle 14"/>
          <p:cNvSpPr/>
          <p:nvPr/>
        </p:nvSpPr>
        <p:spPr>
          <a:xfrm rot="20707200">
            <a:off x="6665400" y="-490320"/>
            <a:ext cx="3067200" cy="5811840"/>
          </a:xfrm>
          <a:custGeom>
            <a:avLst/>
            <a:gdLst/>
            <a:ahLst/>
            <a:rect l="l" t="t" r="r" b="b"/>
            <a:pathLst>
              <a:path w="3065776" h="5811871">
                <a:moveTo>
                  <a:pt x="0" y="0"/>
                </a:moveTo>
                <a:lnTo>
                  <a:pt x="3065776" y="814071"/>
                </a:lnTo>
                <a:lnTo>
                  <a:pt x="1738684" y="5811871"/>
                </a:lnTo>
                <a:lnTo>
                  <a:pt x="82090" y="5811871"/>
                </a:lnTo>
                <a:cubicBezTo>
                  <a:pt x="36753" y="5811871"/>
                  <a:pt x="0" y="5775118"/>
                  <a:pt x="0" y="5729781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4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5"/>
          </p:nvPr>
        </p:nvSpPr>
        <p:spPr>
          <a:xfrm rot="20700000">
            <a:off x="4997160" y="6187680"/>
            <a:ext cx="2381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6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079D-02AD-4B38-87F9-1C86EA378847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9"/>
          <p:cNvSpPr/>
          <p:nvPr/>
        </p:nvSpPr>
        <p:spPr>
          <a:xfrm rot="20707200">
            <a:off x="-617400" y="-651960"/>
            <a:ext cx="6664320" cy="3943080"/>
          </a:xfrm>
          <a:custGeom>
            <a:avLst/>
            <a:gdLst/>
            <a:ahLst/>
            <a:rect l="l" t="t" r="r" b="b"/>
            <a:pathLst>
              <a:path w="6664606" h="3942692">
                <a:moveTo>
                  <a:pt x="1046923" y="0"/>
                </a:moveTo>
                <a:lnTo>
                  <a:pt x="6664606" y="1491692"/>
                </a:lnTo>
                <a:lnTo>
                  <a:pt x="6664606" y="3860602"/>
                </a:lnTo>
                <a:cubicBezTo>
                  <a:pt x="6664606" y="3905939"/>
                  <a:pt x="6627853" y="3942692"/>
                  <a:pt x="6582516" y="3942692"/>
                </a:cubicBezTo>
                <a:lnTo>
                  <a:pt x="0" y="3942692"/>
                </a:lnTo>
                <a:lnTo>
                  <a:pt x="1046923" y="0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" name="Rounded Rectangle 11"/>
          <p:cNvSpPr/>
          <p:nvPr/>
        </p:nvSpPr>
        <p:spPr>
          <a:xfrm rot="20707200">
            <a:off x="6167160" y="-441360"/>
            <a:ext cx="3127320" cy="2425680"/>
          </a:xfrm>
          <a:custGeom>
            <a:avLst/>
            <a:gdLst/>
            <a:ahLst/>
            <a:rect l="l" t="t" r="r" b="b"/>
            <a:pathLst>
              <a:path w="3126510" h="2426476">
                <a:moveTo>
                  <a:pt x="0" y="0"/>
                </a:moveTo>
                <a:lnTo>
                  <a:pt x="3126510" y="830198"/>
                </a:lnTo>
                <a:lnTo>
                  <a:pt x="2702642" y="2426476"/>
                </a:lnTo>
                <a:lnTo>
                  <a:pt x="82091" y="2426476"/>
                </a:lnTo>
                <a:cubicBezTo>
                  <a:pt x="36754" y="2426475"/>
                  <a:pt x="1" y="2389722"/>
                  <a:pt x="1" y="234438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 rot="20707200">
            <a:off x="7143480" y="2001960"/>
            <a:ext cx="2679480" cy="4944960"/>
          </a:xfrm>
          <a:custGeom>
            <a:avLst/>
            <a:gdLst/>
            <a:ahLst/>
            <a:rect l="l" t="t" r="r" b="b"/>
            <a:pathLst>
              <a:path w="2679455" h="4946037">
                <a:moveTo>
                  <a:pt x="2679455" y="0"/>
                </a:moveTo>
                <a:lnTo>
                  <a:pt x="1366108" y="4946037"/>
                </a:lnTo>
                <a:lnTo>
                  <a:pt x="0" y="4583288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267945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" name="Rounded Rectangle 8"/>
          <p:cNvSpPr/>
          <p:nvPr/>
        </p:nvSpPr>
        <p:spPr>
          <a:xfrm rot="20707200">
            <a:off x="-206280" y="3322800"/>
            <a:ext cx="7378560" cy="4557600"/>
          </a:xfrm>
          <a:custGeom>
            <a:avLst/>
            <a:gdLst/>
            <a:ahLst/>
            <a:rect l="l" t="t" r="r" b="b"/>
            <a:pathLst>
              <a:path w="7378073" h="4557796">
                <a:moveTo>
                  <a:pt x="7327936" y="6451"/>
                </a:moveTo>
                <a:cubicBezTo>
                  <a:pt x="7357400" y="18913"/>
                  <a:pt x="7378073" y="48087"/>
                  <a:pt x="7378073" y="82090"/>
                </a:cubicBezTo>
                <a:lnTo>
                  <a:pt x="7378073" y="4557796"/>
                </a:lnTo>
                <a:lnTo>
                  <a:pt x="0" y="2598658"/>
                </a:lnTo>
                <a:lnTo>
                  <a:pt x="690034" y="0"/>
                </a:lnTo>
                <a:lnTo>
                  <a:pt x="7295983" y="0"/>
                </a:lnTo>
                <a:cubicBezTo>
                  <a:pt x="7307317" y="0"/>
                  <a:pt x="7318115" y="2297"/>
                  <a:pt x="7327936" y="645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20700000">
            <a:off x="6741720" y="23126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 rot="20700000">
            <a:off x="6551280" y="1528560"/>
            <a:ext cx="2465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 rot="20700000">
            <a:off x="6451200" y="1162080"/>
            <a:ext cx="21337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F539-11C6-42AA-AC45-B9EAEAA091A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le 8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0" name="Rounded Rectangle 12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1" name="Rounded Rectangle 13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2" name="Rounded Rectangle 14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 rot="900000">
            <a:off x="1690560" y="607680"/>
            <a:ext cx="178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 rot="900000">
            <a:off x="3102840" y="6176520"/>
            <a:ext cx="239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 rot="900000">
            <a:off x="1265400" y="299160"/>
            <a:ext cx="2287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5D9E-848F-44EA-B873-67B273E168F7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16"/>
          <p:cNvSpPr/>
          <p:nvPr/>
        </p:nvSpPr>
        <p:spPr>
          <a:xfrm rot="900000">
            <a:off x="-56880" y="-1017720"/>
            <a:ext cx="7412040" cy="3438720"/>
          </a:xfrm>
          <a:custGeom>
            <a:avLst/>
            <a:gdLst/>
            <a:ahLst/>
            <a:rect l="l" t="t" r="r" b="b"/>
            <a:pathLst>
              <a:path w="7411427" h="3438177">
                <a:moveTo>
                  <a:pt x="0" y="1985886"/>
                </a:moveTo>
                <a:lnTo>
                  <a:pt x="7411427" y="0"/>
                </a:lnTo>
                <a:lnTo>
                  <a:pt x="7411427" y="3356087"/>
                </a:lnTo>
                <a:cubicBezTo>
                  <a:pt x="7411427" y="3401424"/>
                  <a:pt x="7374674" y="3438177"/>
                  <a:pt x="7329337" y="3438177"/>
                </a:cubicBezTo>
                <a:lnTo>
                  <a:pt x="389140" y="3438177"/>
                </a:lnTo>
                <a:lnTo>
                  <a:pt x="0" y="1985886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6" name="Rounded Rectangle 17"/>
          <p:cNvSpPr/>
          <p:nvPr/>
        </p:nvSpPr>
        <p:spPr>
          <a:xfrm rot="900000">
            <a:off x="-776160" y="2417760"/>
            <a:ext cx="6997680" cy="5079960"/>
          </a:xfrm>
          <a:custGeom>
            <a:avLst/>
            <a:gdLst/>
            <a:ahLst/>
            <a:rect l="l" t="t" r="r" b="b"/>
            <a:pathLst>
              <a:path w="6998365" h="5080081">
                <a:moveTo>
                  <a:pt x="0" y="0"/>
                </a:moveTo>
                <a:lnTo>
                  <a:pt x="6916275" y="0"/>
                </a:lnTo>
                <a:cubicBezTo>
                  <a:pt x="6961612" y="0"/>
                  <a:pt x="6998365" y="36753"/>
                  <a:pt x="6998365" y="82090"/>
                </a:cubicBezTo>
                <a:lnTo>
                  <a:pt x="6998365" y="3569608"/>
                </a:lnTo>
                <a:lnTo>
                  <a:pt x="1361203" y="508008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7" name="Rounded Rectangle 18"/>
          <p:cNvSpPr/>
          <p:nvPr/>
        </p:nvSpPr>
        <p:spPr>
          <a:xfrm rot="900000">
            <a:off x="6337080" y="3774600"/>
            <a:ext cx="3103560" cy="3544920"/>
          </a:xfrm>
          <a:custGeom>
            <a:avLst/>
            <a:gdLst/>
            <a:ahLst/>
            <a:rect l="l" t="t" r="r" b="b"/>
            <a:pathLst>
              <a:path w="3102275" h="3544033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375388" y="0"/>
                </a:lnTo>
                <a:lnTo>
                  <a:pt x="3102275" y="2712781"/>
                </a:lnTo>
                <a:lnTo>
                  <a:pt x="0" y="3544033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8" name="Rounded Rectangle 19"/>
          <p:cNvSpPr/>
          <p:nvPr/>
        </p:nvSpPr>
        <p:spPr>
          <a:xfrm rot="900000">
            <a:off x="7327800" y="-104400"/>
            <a:ext cx="2351160" cy="3821040"/>
          </a:xfrm>
          <a:custGeom>
            <a:avLst/>
            <a:gdLst/>
            <a:ahLst/>
            <a:rect l="l" t="t" r="r" b="b"/>
            <a:pathLst>
              <a:path w="2350627" h="3820866">
                <a:moveTo>
                  <a:pt x="1" y="355523"/>
                </a:moveTo>
                <a:lnTo>
                  <a:pt x="1326829" y="0"/>
                </a:lnTo>
                <a:lnTo>
                  <a:pt x="2350627" y="3820866"/>
                </a:lnTo>
                <a:lnTo>
                  <a:pt x="82091" y="3820866"/>
                </a:lnTo>
                <a:cubicBezTo>
                  <a:pt x="36754" y="3820866"/>
                  <a:pt x="1" y="3784113"/>
                  <a:pt x="0" y="3738776"/>
                </a:cubicBezTo>
                <a:lnTo>
                  <a:pt x="1" y="355523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 rot="900000">
            <a:off x="6878160" y="376056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 rot="900000">
            <a:off x="7056000" y="3169800"/>
            <a:ext cx="192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 rot="900000">
            <a:off x="7176600" y="2660760"/>
            <a:ext cx="68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23D4-E213-46F5-B8D1-A90226C32729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ounded Rectangle 16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2" name="Rounded Rectangle 17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3" name="Rounded Rectangle 18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4" name="Rounded Rectangle 19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 rot="20700000">
            <a:off x="7756560" y="588780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 rot="20700000">
            <a:off x="4053960" y="549432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 rot="20700000">
            <a:off x="7689960" y="564336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ED2E-5669-4A6E-A915-A581154BC5DF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ounded Rectangle 52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8" name="Rounded Rectangle 53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9" name="Rounded Rectangle 54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0" name="Rounded Rectangle 55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 rot="20700000">
            <a:off x="4051080" y="5495040"/>
            <a:ext cx="31240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521F-884A-4726-83DA-36BF68059E93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Rounded Rectangle 20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4" name="Rounded Rectangle 21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5" name="Rounded Rectangle 22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6" name="Rounded Rectangle 23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 rot="900000">
            <a:off x="1692000" y="612360"/>
            <a:ext cx="179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 rot="900000">
            <a:off x="2493720" y="6100560"/>
            <a:ext cx="305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 rot="900000">
            <a:off x="1261800" y="301680"/>
            <a:ext cx="228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AF34-0078-45B7-A4F6-867B70AC3695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Rounded Rectangle 11"/>
          <p:cNvSpPr/>
          <p:nvPr/>
        </p:nvSpPr>
        <p:spPr>
          <a:xfrm rot="900000">
            <a:off x="-371520" y="-1217160"/>
            <a:ext cx="8577360" cy="6343560"/>
          </a:xfrm>
          <a:custGeom>
            <a:avLst/>
            <a:gdLst/>
            <a:ahLst/>
            <a:rect l="l" t="t" r="r" b="b"/>
            <a:pathLst>
              <a:path w="8577953" h="6344114">
                <a:moveTo>
                  <a:pt x="0" y="2298455"/>
                </a:moveTo>
                <a:lnTo>
                  <a:pt x="8577953" y="0"/>
                </a:lnTo>
                <a:lnTo>
                  <a:pt x="8577953" y="6262024"/>
                </a:lnTo>
                <a:cubicBezTo>
                  <a:pt x="8577953" y="6307361"/>
                  <a:pt x="8541200" y="6344113"/>
                  <a:pt x="8495863" y="6344113"/>
                </a:cubicBezTo>
                <a:lnTo>
                  <a:pt x="1084031" y="6344114"/>
                </a:lnTo>
                <a:lnTo>
                  <a:pt x="0" y="2298455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0" name="Rounded Rectangle 12"/>
          <p:cNvSpPr/>
          <p:nvPr/>
        </p:nvSpPr>
        <p:spPr>
          <a:xfrm rot="900000">
            <a:off x="-449280" y="5208120"/>
            <a:ext cx="7470720" cy="2486160"/>
          </a:xfrm>
          <a:custGeom>
            <a:avLst/>
            <a:gdLst/>
            <a:ahLst/>
            <a:rect l="l" t="t" r="r" b="b"/>
            <a:pathLst>
              <a:path w="7470000" h="2486713">
                <a:moveTo>
                  <a:pt x="0" y="0"/>
                </a:moveTo>
                <a:lnTo>
                  <a:pt x="7387910" y="0"/>
                </a:lnTo>
                <a:cubicBezTo>
                  <a:pt x="7433247" y="0"/>
                  <a:pt x="7470000" y="36753"/>
                  <a:pt x="7470000" y="82090"/>
                </a:cubicBezTo>
                <a:lnTo>
                  <a:pt x="7470000" y="663670"/>
                </a:lnTo>
                <a:lnTo>
                  <a:pt x="666313" y="2486713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1" name="Rounded Rectangle 13"/>
          <p:cNvSpPr/>
          <p:nvPr/>
        </p:nvSpPr>
        <p:spPr>
          <a:xfrm rot="900000">
            <a:off x="7192800" y="6483240"/>
            <a:ext cx="1932120" cy="635040"/>
          </a:xfrm>
          <a:custGeom>
            <a:avLst/>
            <a:gdLst/>
            <a:ahLst/>
            <a:rect l="l" t="t" r="r" b="b"/>
            <a:pathLst>
              <a:path w="1932834" h="63563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01288" y="0"/>
                </a:lnTo>
                <a:lnTo>
                  <a:pt x="1932834" y="117729"/>
                </a:lnTo>
                <a:lnTo>
                  <a:pt x="0" y="635630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2" name="Rounded Rectangle 14"/>
          <p:cNvSpPr/>
          <p:nvPr/>
        </p:nvSpPr>
        <p:spPr>
          <a:xfrm rot="900000">
            <a:off x="8126280" y="92160"/>
            <a:ext cx="1879560" cy="6414840"/>
          </a:xfrm>
          <a:custGeom>
            <a:avLst/>
            <a:gdLst/>
            <a:ahLst/>
            <a:rect l="l" t="t" r="r" b="b"/>
            <a:pathLst>
              <a:path w="1878991" h="6414233">
                <a:moveTo>
                  <a:pt x="0" y="42953"/>
                </a:moveTo>
                <a:lnTo>
                  <a:pt x="160303" y="0"/>
                </a:lnTo>
                <a:lnTo>
                  <a:pt x="1878991" y="6414233"/>
                </a:lnTo>
                <a:lnTo>
                  <a:pt x="82090" y="6414233"/>
                </a:lnTo>
                <a:cubicBezTo>
                  <a:pt x="36753" y="6414233"/>
                  <a:pt x="0" y="6377480"/>
                  <a:pt x="0" y="6332143"/>
                </a:cubicBezTo>
                <a:lnTo>
                  <a:pt x="0" y="42953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 rot="900000">
            <a:off x="7521120" y="592740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 rot="900000">
            <a:off x="3892320" y="5987880"/>
            <a:ext cx="31240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 rot="900000">
            <a:off x="7598520" y="5570640"/>
            <a:ext cx="71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83B9-F36D-4A1E-B1D0-74814918102A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Rounded Rectangle 12"/>
          <p:cNvSpPr/>
          <p:nvPr/>
        </p:nvSpPr>
        <p:spPr>
          <a:xfrm rot="20707200">
            <a:off x="-896400" y="-623880"/>
            <a:ext cx="7286400" cy="6040440"/>
          </a:xfrm>
          <a:custGeom>
            <a:avLst/>
            <a:gdLst/>
            <a:ahLst/>
            <a:rect l="l" t="t" r="r" b="b"/>
            <a:pathLst>
              <a:path w="7286946" h="6041338">
                <a:moveTo>
                  <a:pt x="1604186" y="0"/>
                </a:moveTo>
                <a:lnTo>
                  <a:pt x="7286946" y="1508972"/>
                </a:lnTo>
                <a:lnTo>
                  <a:pt x="7286946" y="5959247"/>
                </a:lnTo>
                <a:cubicBezTo>
                  <a:pt x="7286946" y="6004584"/>
                  <a:pt x="7250193" y="6041337"/>
                  <a:pt x="7204856" y="6041337"/>
                </a:cubicBezTo>
                <a:lnTo>
                  <a:pt x="0" y="6041338"/>
                </a:lnTo>
                <a:lnTo>
                  <a:pt x="1604186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6" name="Rounded Rectangle 13"/>
          <p:cNvSpPr/>
          <p:nvPr/>
        </p:nvSpPr>
        <p:spPr>
          <a:xfrm rot="20707200">
            <a:off x="64800" y="5378400"/>
            <a:ext cx="7442280" cy="2476440"/>
          </a:xfrm>
          <a:custGeom>
            <a:avLst/>
            <a:gdLst/>
            <a:ahLst/>
            <a:rect l="l" t="t" r="r" b="b"/>
            <a:pathLst>
              <a:path w="7443151" h="2476431">
                <a:moveTo>
                  <a:pt x="7393013" y="6452"/>
                </a:moveTo>
                <a:cubicBezTo>
                  <a:pt x="7422477" y="18914"/>
                  <a:pt x="7443150" y="48087"/>
                  <a:pt x="7443150" y="82090"/>
                </a:cubicBezTo>
                <a:lnTo>
                  <a:pt x="7443151" y="2476431"/>
                </a:lnTo>
                <a:lnTo>
                  <a:pt x="0" y="500014"/>
                </a:lnTo>
                <a:lnTo>
                  <a:pt x="132771" y="1"/>
                </a:lnTo>
                <a:lnTo>
                  <a:pt x="7361060" y="1"/>
                </a:lnTo>
                <a:cubicBezTo>
                  <a:pt x="7372394" y="0"/>
                  <a:pt x="7383192" y="2298"/>
                  <a:pt x="7393013" y="6452"/>
                </a:cubicBez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7" name="Rounded Rectangle 14"/>
          <p:cNvSpPr/>
          <p:nvPr/>
        </p:nvSpPr>
        <p:spPr>
          <a:xfrm rot="20707200">
            <a:off x="7661160" y="5459400"/>
            <a:ext cx="1708200" cy="1538280"/>
          </a:xfrm>
          <a:custGeom>
            <a:avLst/>
            <a:gdLst/>
            <a:ahLst/>
            <a:rect l="l" t="t" r="r" b="b"/>
            <a:pathLst>
              <a:path w="1709023" h="1538302">
                <a:moveTo>
                  <a:pt x="1709023" y="0"/>
                </a:moveTo>
                <a:lnTo>
                  <a:pt x="1300550" y="1538302"/>
                </a:lnTo>
                <a:lnTo>
                  <a:pt x="0" y="119296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3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8" name="Rounded Rectangle 15"/>
          <p:cNvSpPr/>
          <p:nvPr/>
        </p:nvSpPr>
        <p:spPr>
          <a:xfrm rot="20707200">
            <a:off x="6673320" y="-490320"/>
            <a:ext cx="3059280" cy="5810400"/>
          </a:xfrm>
          <a:custGeom>
            <a:avLst/>
            <a:gdLst/>
            <a:ahLst/>
            <a:rect l="l" t="t" r="r" b="b"/>
            <a:pathLst>
              <a:path w="3059119" h="5809409">
                <a:moveTo>
                  <a:pt x="0" y="0"/>
                </a:moveTo>
                <a:lnTo>
                  <a:pt x="3059119" y="812303"/>
                </a:lnTo>
                <a:lnTo>
                  <a:pt x="1732212" y="5809409"/>
                </a:lnTo>
                <a:lnTo>
                  <a:pt x="82090" y="5809409"/>
                </a:lnTo>
                <a:cubicBezTo>
                  <a:pt x="36753" y="5809409"/>
                  <a:pt x="0" y="5772656"/>
                  <a:pt x="0" y="5727319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 rot="20700000">
            <a:off x="4264200" y="6098760"/>
            <a:ext cx="306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DC66-44D1-4242-86BD-4D25F7833D7E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4"/>
          <p:cNvSpPr/>
          <p:nvPr/>
        </p:nvSpPr>
        <p:spPr>
          <a:xfrm>
            <a:off x="179280" y="260280"/>
            <a:ext cx="8777520" cy="2398680"/>
          </a:xfrm>
          <a:prstGeom prst="rect">
            <a:avLst/>
          </a:prstGeom>
          <a:solidFill>
            <a:srgbClr val="5069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Уральское управление Ростехнадзора 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Межрегиональный отдел горного надзор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ТОГИ РАБОТЫ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5 месяцев 2024 год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556" name="Picture 6" descr="C:\Users\v.noskov\Desktop\Задания\2019 год\Презентация АВ (В РАБОТЕ!)\Логотип РТН.png"/>
          <p:cNvPicPr/>
          <p:nvPr/>
        </p:nvPicPr>
        <p:blipFill>
          <a:blip r:embed="rId1"/>
          <a:stretch/>
        </p:blipFill>
        <p:spPr>
          <a:xfrm>
            <a:off x="324000" y="700200"/>
            <a:ext cx="1295280" cy="1519200"/>
          </a:xfrm>
          <a:prstGeom prst="rect">
            <a:avLst/>
          </a:prstGeom>
          <a:ln w="0">
            <a:noFill/>
          </a:ln>
        </p:spPr>
      </p:pic>
      <p:sp>
        <p:nvSpPr>
          <p:cNvPr id="557" name="Прямая соединительная линия 2"/>
          <p:cNvSpPr/>
          <p:nvPr/>
        </p:nvSpPr>
        <p:spPr>
          <a:xfrm>
            <a:off x="1835280" y="1460520"/>
            <a:ext cx="6408720" cy="0"/>
          </a:xfrm>
          <a:prstGeom prst="line">
            <a:avLst/>
          </a:prstGeom>
          <a:ln w="12600">
            <a:solidFill>
              <a:srgbClr val="559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558" name="Рисунок 1" descr=""/>
          <p:cNvPicPr/>
          <p:nvPr/>
        </p:nvPicPr>
        <p:blipFill>
          <a:blip r:embed="rId2"/>
          <a:stretch/>
        </p:blipFill>
        <p:spPr>
          <a:xfrm>
            <a:off x="179280" y="2952720"/>
            <a:ext cx="5515200" cy="2948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Box 3"/>
          <p:cNvSpPr/>
          <p:nvPr/>
        </p:nvSpPr>
        <p:spPr>
          <a:xfrm>
            <a:off x="324000" y="44280"/>
            <a:ext cx="8496000" cy="65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ертельный травматизм: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3.02.2024</a:t>
            </a:r>
            <a:r>
              <a:rPr b="0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на опасном производственном объекте I класса опасности шахте «Южная» ОАО «ВГОК» горный мастер подземного комплексного участка № 3 шахты «Южная» Кузнецов Е.С. сообщил горному диспетчеру, что по окончании смены из шахты не выехал машинист скреперной лебедки подземного комплексного участка № 3 Попов А.С. Были организованы поиски Попова А.С. силами работников шахты. Машинист скреперной лебедки Попов А.С. был найден на пластинчатом питателе дробилки гор.-333м. Пострадавший был вывезен на поверхность, где работники скорой помощи констатировали смерть.</a:t>
            </a:r>
            <a:endParaRPr b="0" lang="en-US" sz="17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ледование продолжается.</a:t>
            </a:r>
            <a:endParaRPr b="0" lang="en-US" sz="17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7.04.2024</a:t>
            </a:r>
            <a:r>
              <a:rPr b="0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ООО «РемЭнергоМонтаж» фабрике обогащения рудного сырья чёрных металлов АО «ЕВРАЗ КГОК», произошел несчастный случай со смертельным исходом со слесарем по ремонту оборудования Макаревичем В.А. ООО «РемЭнергоМонтаж». По предварительной информации в результате ремонтных работ на конвейере произошло затягивание пострадавшего под вращающийся вал.</a:t>
            </a:r>
            <a:endParaRPr b="0" lang="en-US" sz="17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ледование продолжается.</a:t>
            </a:r>
            <a:endParaRPr b="0" lang="en-US" sz="17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Box 3"/>
          <p:cNvSpPr/>
          <p:nvPr/>
        </p:nvSpPr>
        <p:spPr>
          <a:xfrm>
            <a:off x="324000" y="44280"/>
            <a:ext cx="8496000" cy="70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3.05.2024</a:t>
            </a:r>
            <a:r>
              <a:rPr b="0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в АО «ЕВРАЗ КГОК» водитель автосамосвала БелАЗ-75131 гар.№13 работник ООО «Ванадий-транспорт» Абдрахманов Урал Фаритович (1987г.р., стаж с 07.2023г.) выполнял по наряд-заданию перевозку горной массы от ЭКГ №58 на п/пункты №1,2 в Главном карьере. В 15:35 час. при движении груженого БелАЗа вверх по технологической дороге №8, не доезжая отм. +100 м, самовал остановился, водитель сообщил по радиосвязи  о неисправности двигателя (двигатель заглох и не заводился) и запросил техпомощи. Через 5,5 мин. после этого БелАЗ покатился по дороге вниз, наехал на бровку автодороги и упал вниз на борт карьера через 5 уступов (высота падения около 75 м.). В результате аварии работник был обнаружен под завалами горной массы без признаков жизни.</a:t>
            </a:r>
            <a:endParaRPr b="0" lang="en-US" sz="17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ледование продолжается.</a:t>
            </a:r>
            <a:endParaRPr b="0" lang="en-US" sz="17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5.05.2024</a:t>
            </a:r>
            <a:r>
              <a:rPr b="0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14 часов 00 минут  на ОПО «Фабрика агломерационная № 5» ПАО «Магнитогорский металлургический комбинат» При перемещении по рабочему проходу, вдоль конвейера СК-04 бункеровщик Чемезова Кристина Артуровна упала в ремонтный люк (d=800 мм) бункера №1 с отм. +22.500м на отм. +9.500м, поучив в результате травмы не совместимые с жизнью.</a:t>
            </a:r>
            <a:endParaRPr b="0" lang="en-US" sz="17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ледование продолжается.</a:t>
            </a:r>
            <a:endParaRPr b="0" lang="en-US" sz="17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Box 3"/>
          <p:cNvSpPr/>
          <p:nvPr/>
        </p:nvSpPr>
        <p:spPr>
          <a:xfrm>
            <a:off x="324000" y="44280"/>
            <a:ext cx="849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7.05.2024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16 часов 30 минут  на ОПО «Цех дробильно-сортировочный» ПАО «Магнитогорский металлургический комбинат». Для выполнения работ по замене резинового уплотнения (борта) укрытия ленточного конвейера № 32 Ильин В.А. поднялся на ленту остановленного, но не обесточенного конвейера № 32. В момент нахождения работника на ленте, конвейер пришел в движение, в результате чего, Ильин В.А. был затянут движущейся лентой под укрытие перегрузочного устройства, получил при этом травмы, не совместимые с жизнью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ледование продолжается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Box 3"/>
          <p:cNvSpPr/>
          <p:nvPr/>
        </p:nvSpPr>
        <p:spPr>
          <a:xfrm>
            <a:off x="324000" y="44280"/>
            <a:ext cx="84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яжелые несчастные случаи: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.01.2024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ОО «Краснотурьинск Полиметалл» при выполнении работ, не предусмотренных нарядом, самостоятельно приняв решение оказать помощь в ремонте колеса погрузчика, при ударе кувалдой по стопорному кольцу колеса, находившегося в накаченном состоянии, разблокировал стопорное кольцо и от удара вылетевшего диска и покрышки, бункеровщик получил удар по нижней части тела. Получена тяжелая травма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чины несчастного случая: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Неудовлетворительное содержание и недостатки в организации рабочих мест.      - Не осуществлен контроль за работником, выполняющим работы, предусмотренные нарядом;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Недостаточная организация производственного контроля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Box 3"/>
          <p:cNvSpPr/>
          <p:nvPr/>
        </p:nvSpPr>
        <p:spPr>
          <a:xfrm>
            <a:off x="324000" y="44280"/>
            <a:ext cx="8496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6.02.2024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ГОК «Березняковский» АО «Южуралзолото группа компаний»</a:t>
            </a: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дождавшись остановки мельницы, машинист принял решение осмотреть работу механизмов и произвести очистку каретки загрузочного устройства мельницы от негабаритов при помощи лома. Для этого, не дождавшись остановки МПСИ поднялся на ограждение барабана мельницы. Затем в пространство между вращающейся мельницей и загрузочным устройством засунул лом, в загрузочную каретку с целью, расшевелить негабаритный кусок породы, при этом второй конец лома попал в зону действия вращения мельницы в результате чего лом спружинил в сторону  пострадавшего и ударив его по голове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чины несчастного случая: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Несовершенство технологического процесса;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Неудовлетворительная организация производства работ;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Недостаточная организация производственного контроля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3"/>
          <p:cNvSpPr/>
          <p:nvPr/>
        </p:nvSpPr>
        <p:spPr>
          <a:xfrm>
            <a:off x="324000" y="44280"/>
            <a:ext cx="84960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1.04.2024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10 часов 50 минут  на карьере  ООО «Гумбейский щебеночный завод» при выполнении ремонтных работ машинист буровой установки Захаров Дмитрий Николаевич в 10.50 во время откручивания второго штуцера, конец рукава высокого давления резко сорвало и гайкой ударило по левой ноге, в результате чего работник получил тяжелую  травму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чины несчастного случая: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Монтаж (демонтаж) неисправных машин, механизмов, оборудо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Неудовлетворительная организация производства работ,;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Недостатки в организации и проведении подготовки работников по охране труда, в том числе не проведение обучения и проверки знаний охраны труда;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Box 3"/>
          <p:cNvSpPr/>
          <p:nvPr/>
        </p:nvSpPr>
        <p:spPr>
          <a:xfrm>
            <a:off x="324000" y="4428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0.04.2024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в  шахте  «Кальинская» АО «СУБР» произошел горный удар в блоке 11 север гор. – 1130 м. В результате обрушения горной массы пострадал машинист буровой установки участка «Профилактики и предупреждения горных ударов», получил тяжелую травму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ледование продолжается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Прямоугольник 4"/>
          <p:cNvSpPr/>
          <p:nvPr/>
        </p:nvSpPr>
        <p:spPr>
          <a:xfrm>
            <a:off x="900000" y="18900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Анализ основных показателей надзорной деятельности в период с 01.01.2024 по 01.06.2024 и аналогичный период 2023  год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0" name="TextBox 16"/>
          <p:cNvSpPr/>
          <p:nvPr/>
        </p:nvSpPr>
        <p:spPr>
          <a:xfrm>
            <a:off x="318960" y="132732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рольно (надзорные)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роприятия 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1" name="TextBox 17"/>
          <p:cNvSpPr/>
          <p:nvPr/>
        </p:nvSpPr>
        <p:spPr>
          <a:xfrm>
            <a:off x="5796000" y="1327320"/>
            <a:ext cx="32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явленные нарушения требований промышленной безопасности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602" name="Диаграмма 1" descr=""/>
          <p:cNvPicPr/>
          <p:nvPr/>
        </p:nvPicPr>
        <p:blipFill>
          <a:blip r:embed="rId1"/>
          <a:stretch/>
        </p:blipFill>
        <p:spPr>
          <a:xfrm>
            <a:off x="268200" y="1938240"/>
            <a:ext cx="4067280" cy="4165560"/>
          </a:xfrm>
          <a:prstGeom prst="rect">
            <a:avLst/>
          </a:prstGeom>
          <a:ln w="0">
            <a:noFill/>
          </a:ln>
        </p:spPr>
      </p:pic>
      <p:pic>
        <p:nvPicPr>
          <p:cNvPr id="603" name="Диаграмма 7" descr=""/>
          <p:cNvPicPr/>
          <p:nvPr/>
        </p:nvPicPr>
        <p:blipFill>
          <a:blip r:embed="rId2"/>
          <a:stretch/>
        </p:blipFill>
        <p:spPr>
          <a:xfrm>
            <a:off x="4808520" y="2009880"/>
            <a:ext cx="4067280" cy="4165560"/>
          </a:xfrm>
          <a:prstGeom prst="rect">
            <a:avLst/>
          </a:prstGeom>
          <a:ln w="0">
            <a:noFill/>
          </a:ln>
        </p:spPr>
      </p:pic>
      <p:sp>
        <p:nvSpPr>
          <p:cNvPr id="604" name="Надпись 2"/>
          <p:cNvSpPr/>
          <p:nvPr/>
        </p:nvSpPr>
        <p:spPr>
          <a:xfrm>
            <a:off x="1258920" y="4292640"/>
            <a:ext cx="34272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  <a:ea typeface="Calibri"/>
              </a:rPr>
              <a:t>19</a:t>
            </a:r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5" name="Надпись 2"/>
          <p:cNvSpPr/>
          <p:nvPr/>
        </p:nvSpPr>
        <p:spPr>
          <a:xfrm>
            <a:off x="1692360" y="4292640"/>
            <a:ext cx="35856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  <a:ea typeface="Calibri"/>
              </a:rPr>
              <a:t>26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6" name="Надпись 2"/>
          <p:cNvSpPr/>
          <p:nvPr/>
        </p:nvSpPr>
        <p:spPr>
          <a:xfrm>
            <a:off x="2197080" y="2235240"/>
            <a:ext cx="41436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  <a:ea typeface="Calibri"/>
              </a:rPr>
              <a:t>277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7" name="Надпись 2"/>
          <p:cNvSpPr/>
          <p:nvPr/>
        </p:nvSpPr>
        <p:spPr>
          <a:xfrm>
            <a:off x="2611440" y="2637000"/>
            <a:ext cx="43164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</a:rPr>
              <a:t>226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8" name="Надпись 2"/>
          <p:cNvSpPr/>
          <p:nvPr/>
        </p:nvSpPr>
        <p:spPr>
          <a:xfrm>
            <a:off x="5665680" y="3860640"/>
            <a:ext cx="416160" cy="23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Calibri"/>
                <a:ea typeface="Calibri"/>
              </a:rPr>
              <a:t>191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9" name="Надпись 2"/>
          <p:cNvSpPr/>
          <p:nvPr/>
        </p:nvSpPr>
        <p:spPr>
          <a:xfrm>
            <a:off x="6081840" y="3745080"/>
            <a:ext cx="399960" cy="23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  <a:ea typeface="Calibri"/>
              </a:rPr>
              <a:t>214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0" name="Надпись 2"/>
          <p:cNvSpPr/>
          <p:nvPr/>
        </p:nvSpPr>
        <p:spPr>
          <a:xfrm>
            <a:off x="6659640" y="2751120"/>
            <a:ext cx="433440" cy="23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Calibri"/>
                <a:ea typeface="Calibri"/>
              </a:rPr>
              <a:t>518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1" name="Надпись 2"/>
          <p:cNvSpPr/>
          <p:nvPr/>
        </p:nvSpPr>
        <p:spPr>
          <a:xfrm>
            <a:off x="7149960" y="2232000"/>
            <a:ext cx="446400" cy="23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Calibri"/>
                <a:ea typeface="Calibri"/>
              </a:rPr>
              <a:t>654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-5040" y="1014480"/>
            <a:ext cx="3074760" cy="89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59e"/>
                </a:solidFill>
                <a:latin typeface="Times New Roman"/>
                <a:ea typeface="Times New Roman"/>
              </a:rPr>
              <a:t>Количество административных штрафов </a:t>
            </a: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13" name="Заголовок 2"/>
          <p:cNvSpPr/>
          <p:nvPr/>
        </p:nvSpPr>
        <p:spPr>
          <a:xfrm>
            <a:off x="6043680" y="887400"/>
            <a:ext cx="33940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59e"/>
                </a:solidFill>
                <a:latin typeface="Times New Roman"/>
                <a:ea typeface="Times New Roman"/>
              </a:rPr>
              <a:t>Сумма наложенных штрафов,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59e"/>
                </a:solidFill>
                <a:latin typeface="Times New Roman"/>
                <a:ea typeface="Times New Roman"/>
              </a:rPr>
              <a:t>тыс. рублей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4" name="TextBox 5"/>
          <p:cNvSpPr/>
          <p:nvPr/>
        </p:nvSpPr>
        <p:spPr>
          <a:xfrm>
            <a:off x="1619280" y="11124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ДМИНИСТРАТИВНОЕ ДЕЛОПРОИЗВОДСТВО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615" name="Диаграмма 1" descr=""/>
          <p:cNvPicPr/>
          <p:nvPr/>
        </p:nvPicPr>
        <p:blipFill>
          <a:blip r:embed="rId1"/>
          <a:stretch/>
        </p:blipFill>
        <p:spPr>
          <a:xfrm>
            <a:off x="57240" y="1085760"/>
            <a:ext cx="4886280" cy="5832720"/>
          </a:xfrm>
          <a:prstGeom prst="rect">
            <a:avLst/>
          </a:prstGeom>
          <a:ln w="0">
            <a:noFill/>
          </a:ln>
        </p:spPr>
      </p:pic>
      <p:pic>
        <p:nvPicPr>
          <p:cNvPr id="616" name="Диаграмма 9" descr=""/>
          <p:cNvPicPr/>
          <p:nvPr/>
        </p:nvPicPr>
        <p:blipFill>
          <a:blip r:embed="rId2"/>
          <a:stretch/>
        </p:blipFill>
        <p:spPr>
          <a:xfrm>
            <a:off x="4859280" y="1389240"/>
            <a:ext cx="4392720" cy="4906800"/>
          </a:xfrm>
          <a:prstGeom prst="rect">
            <a:avLst/>
          </a:prstGeom>
          <a:ln w="0">
            <a:noFill/>
          </a:ln>
        </p:spPr>
      </p:pic>
      <p:sp>
        <p:nvSpPr>
          <p:cNvPr id="617" name="Надпись 2"/>
          <p:cNvSpPr/>
          <p:nvPr/>
        </p:nvSpPr>
        <p:spPr>
          <a:xfrm>
            <a:off x="2340000" y="3971880"/>
            <a:ext cx="574560" cy="303120"/>
          </a:xfrm>
          <a:prstGeom prst="rect">
            <a:avLst/>
          </a:prstGeom>
          <a:solidFill>
            <a:srgbClr val="76c5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80</a:t>
            </a: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8" name="Надпись 2"/>
          <p:cNvSpPr/>
          <p:nvPr/>
        </p:nvSpPr>
        <p:spPr>
          <a:xfrm>
            <a:off x="873000" y="3560760"/>
            <a:ext cx="576360" cy="303120"/>
          </a:xfrm>
          <a:prstGeom prst="rect">
            <a:avLst/>
          </a:prstGeom>
          <a:solidFill>
            <a:srgbClr val="fea02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73</a:t>
            </a: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9" name="Надпись 2"/>
          <p:cNvSpPr/>
          <p:nvPr/>
        </p:nvSpPr>
        <p:spPr>
          <a:xfrm>
            <a:off x="5508720" y="3409920"/>
            <a:ext cx="687240" cy="301680"/>
          </a:xfrm>
          <a:prstGeom prst="rect">
            <a:avLst/>
          </a:prstGeom>
          <a:solidFill>
            <a:srgbClr val="fea02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3020</a:t>
            </a: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0" name="Надпись 2"/>
          <p:cNvSpPr/>
          <p:nvPr/>
        </p:nvSpPr>
        <p:spPr>
          <a:xfrm>
            <a:off x="6588000" y="4141800"/>
            <a:ext cx="720720" cy="303120"/>
          </a:xfrm>
          <a:prstGeom prst="rect">
            <a:avLst/>
          </a:prstGeom>
          <a:solidFill>
            <a:srgbClr val="76c5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3110</a:t>
            </a: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Box 6"/>
          <p:cNvSpPr/>
          <p:nvPr/>
        </p:nvSpPr>
        <p:spPr>
          <a:xfrm>
            <a:off x="754200" y="260280"/>
            <a:ext cx="80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нализ соблюдения установленных требований промышленной безопасност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2" name="TextBox 7"/>
          <p:cNvSpPr/>
          <p:nvPr/>
        </p:nvSpPr>
        <p:spPr>
          <a:xfrm>
            <a:off x="324000" y="98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3" name="TextBox 3"/>
          <p:cNvSpPr/>
          <p:nvPr/>
        </p:nvSpPr>
        <p:spPr>
          <a:xfrm>
            <a:off x="324000" y="84132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Производственный контроль за соблюдением требований промышленной безопасност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268200" y="2276640"/>
          <a:ext cx="8444160" cy="3044520"/>
        </p:xfrm>
        <a:graphic>
          <a:graphicData uri="http://schemas.openxmlformats.org/drawingml/2006/table">
            <a:tbl>
              <a:tblPr/>
              <a:tblGrid>
                <a:gridCol w="4222800"/>
                <a:gridCol w="4221360"/>
              </a:tblGrid>
              <a:tr h="66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Свердловская, Челябинская и Курганская области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</a:tr>
              <a:tr h="38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Закреплено за отделом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Rockwell"/>
                        </a:rPr>
                        <a:t>: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  <a:ea typeface="Cambria"/>
                        </a:rPr>
                        <a:t>283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66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Рассмотрено отчетов о ПК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Rockwell"/>
                        </a:rPr>
                        <a:t>: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  <a:ea typeface="Cambria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66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Деятельность не ведется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Rockwell"/>
                        </a:rPr>
                        <a:t>: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Cambria"/>
                          <a:ea typeface="Cambria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  <a:ea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66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Сведений не предоставлено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Rockwell"/>
                        </a:rPr>
                        <a:t>: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  <a:ea typeface="Cambria"/>
                        </a:rPr>
                        <a:t>33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</a:tbl>
          </a:graphicData>
        </a:graphic>
      </p:graphicFrame>
      <p:sp>
        <p:nvSpPr>
          <p:cNvPr id="625" name="TextBox 11"/>
          <p:cNvSpPr/>
          <p:nvPr/>
        </p:nvSpPr>
        <p:spPr>
          <a:xfrm>
            <a:off x="216000" y="54450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ланируется привлечение к административной ответственности, организаций не предоставивших отчет об организации производственного контроля за соблюдением требований промышленной безопасности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6" name="Прямоугольник 1"/>
          <p:cNvSpPr/>
          <p:nvPr/>
        </p:nvSpPr>
        <p:spPr>
          <a:xfrm>
            <a:off x="216000" y="162396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За межрегиональным отделом горного надзора закреплено 283 предприятий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5" descr="C:\Users\v.noskov\Desktop\uralskiy.jpg"/>
          <p:cNvPicPr/>
          <p:nvPr/>
        </p:nvPicPr>
        <p:blipFill>
          <a:blip r:embed="rId1"/>
          <a:stretch/>
        </p:blipFill>
        <p:spPr>
          <a:xfrm>
            <a:off x="596880" y="1481040"/>
            <a:ext cx="4681440" cy="473076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-7920" y="188640"/>
            <a:ext cx="9151920" cy="129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состоянию на 01.06.2024 Уральским управлением Ростехнадзора зарегистрировано 266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рганизаций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эксплуатирующих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16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О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однадзорных горному надзору</a:t>
            </a: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61" name="TextBox 1"/>
          <p:cNvSpPr/>
          <p:nvPr/>
        </p:nvSpPr>
        <p:spPr>
          <a:xfrm>
            <a:off x="6026040" y="2276640"/>
            <a:ext cx="3024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Челябинская область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193 ОПО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вердловская область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217 ОПО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Курганская область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6 ОПО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2" name="Овал 1"/>
          <p:cNvSpPr/>
          <p:nvPr/>
        </p:nvSpPr>
        <p:spPr>
          <a:xfrm>
            <a:off x="971640" y="2471760"/>
            <a:ext cx="3671640" cy="3602160"/>
          </a:xfrm>
          <a:prstGeom prst="ellipse">
            <a:avLst/>
          </a:prstGeom>
          <a:noFill/>
          <a:ln w="25560">
            <a:solidFill>
              <a:srgbClr val="4272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Box 6"/>
          <p:cNvSpPr/>
          <p:nvPr/>
        </p:nvSpPr>
        <p:spPr>
          <a:xfrm>
            <a:off x="765000" y="11592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нализ соблюдения установленных требований промышленной безопасност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8" name="TextBox 7"/>
          <p:cNvSpPr/>
          <p:nvPr/>
        </p:nvSpPr>
        <p:spPr>
          <a:xfrm>
            <a:off x="358920" y="1341360"/>
            <a:ext cx="8280360" cy="23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 ходе мероприятий по контролю выявлялись факты эксплуатации зданий и сооружений без проведения экспертизы промышленной безопасности, а также без выполнения мероприятий указанных в экспертизе промышленной безопасности. По данным фактам составлялись протоколы об административной ответственности и направлялись в суд для административного приостановления деятельности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9" name="Прямоугольник 3"/>
          <p:cNvSpPr/>
          <p:nvPr/>
        </p:nvSpPr>
        <p:spPr>
          <a:xfrm>
            <a:off x="2471760" y="763560"/>
            <a:ext cx="46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Экспертиза промышленной безопасност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Box 6"/>
          <p:cNvSpPr/>
          <p:nvPr/>
        </p:nvSpPr>
        <p:spPr>
          <a:xfrm>
            <a:off x="765000" y="11592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нализ соблюдения установленных требований промышленной безопасност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1" name="Прямоугольник 1"/>
          <p:cNvSpPr/>
          <p:nvPr/>
        </p:nvSpPr>
        <p:spPr>
          <a:xfrm>
            <a:off x="660960" y="763560"/>
            <a:ext cx="82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трахование ответственности за причинения вреда при эксплуатации ОПО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2" name="Прямоугольник 4"/>
          <p:cNvSpPr/>
          <p:nvPr/>
        </p:nvSpPr>
        <p:spPr>
          <a:xfrm>
            <a:off x="225360" y="1484280"/>
            <a:ext cx="8728200" cy="32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д надзором межрегионального отдела горного надзора находится 283 организации эксплуатирующие опасные производственные объекты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 состоянию на 01.06.2024, полис обязательного страхования гражданской ответственности отсутствует у 10 организаций, которые, в настоящий момент, не ведут деятельность в области промышленной безопасности. Таким образом, процент организации с отсутствующим полисом страхования, составляет – 2,3 %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 данным предприятиям будет проводиться проверка на наличие признаков опасности с последующим исключением из государственного реестра опасных производственных объектов.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Прямоугольник 1"/>
          <p:cNvSpPr/>
          <p:nvPr/>
        </p:nvSpPr>
        <p:spPr>
          <a:xfrm>
            <a:off x="2411280" y="189000"/>
            <a:ext cx="46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нализ показателей лицензирования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4" name="Прямоугольник 2"/>
          <p:cNvSpPr/>
          <p:nvPr/>
        </p:nvSpPr>
        <p:spPr>
          <a:xfrm>
            <a:off x="108000" y="603360"/>
            <a:ext cx="9036000" cy="32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д надзором межрегионального отдела горного надзора находится 283 организации эксплуатирующие опасные производственные объекты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Без лицензии числится 1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предприятий на которых лицензионная деятельность не ведется по следующим причинам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ликвидации из ЕГРЮЛ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ведено конкурсное управление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отсутствует эксплуатирующий персонал, эксплуатация ОПО не ведется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Прямоугольник 4"/>
          <p:cNvSpPr/>
          <p:nvPr/>
        </p:nvSpPr>
        <p:spPr>
          <a:xfrm>
            <a:off x="1403280" y="11592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бщая оценка состояния безопасности и противоаварийная устойчивость предприятий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6" name="Прямоугольник 5"/>
          <p:cNvSpPr/>
          <p:nvPr/>
        </p:nvSpPr>
        <p:spPr>
          <a:xfrm>
            <a:off x="395280" y="693720"/>
            <a:ext cx="835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 целях обеспечения готовности организаций, эксплуатирующих опасные производственные объекты, к действиям по локализации и ликвидации последствий аварий, на всех ОПО разработан план мероприятий по локализации и ликвидации последствий аварий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Осуществляется контроль за проведением учебных тревог, в том числе при проведении постоянного государственного надзора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се предприятия имеют договор аварийного прикрытия с аварийно-спасательными формированиями (АСФ) или аварийно-спасательными службами (АСС). У некоторых предприятий имеются собственные АСС или АСФ в виде отдельных подразделений или отдельных юридических лиц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отивоаварийную устойчивость опасных производственных объектов, поднадзорных межрегиональному отделу горного надзора Уральского управления Ростехнадзора можно охарактеризовать, как – удовлетворительную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4" descr="F:\20191101104057.jp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5492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907640" y="1628280"/>
            <a:ext cx="547236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mbria"/>
              </a:rPr>
              <a:t>СПАСИБО ЗА ВНИМАНИЕ</a:t>
            </a:r>
            <a:endParaRPr b="0" lang="en-US" sz="4000" spc="-1" strike="noStrike">
              <a:solidFill>
                <a:srgbClr val="002060"/>
              </a:solidFill>
              <a:latin typeface="Cambr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1"/>
          <p:cNvSpPr/>
          <p:nvPr/>
        </p:nvSpPr>
        <p:spPr>
          <a:xfrm>
            <a:off x="611280" y="33336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арактеристики поднадзорных производств.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пределение ОПО по классам опасност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564" name="Диаграмма 4" descr=""/>
          <p:cNvPicPr/>
          <p:nvPr/>
        </p:nvPicPr>
        <p:blipFill>
          <a:blip r:embed="rId1"/>
          <a:stretch/>
        </p:blipFill>
        <p:spPr>
          <a:xfrm>
            <a:off x="200160" y="1346040"/>
            <a:ext cx="8743680" cy="5302440"/>
          </a:xfrm>
          <a:prstGeom prst="rect">
            <a:avLst/>
          </a:prstGeom>
          <a:ln w="0">
            <a:noFill/>
          </a:ln>
        </p:spPr>
      </p:pic>
      <p:sp>
        <p:nvSpPr>
          <p:cNvPr id="565" name="Надпись 2"/>
          <p:cNvSpPr/>
          <p:nvPr/>
        </p:nvSpPr>
        <p:spPr>
          <a:xfrm>
            <a:off x="1042920" y="5516640"/>
            <a:ext cx="36036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  <a:ea typeface="Calibri"/>
              </a:rPr>
              <a:t>12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6" name="Надпись 2"/>
          <p:cNvSpPr/>
          <p:nvPr/>
        </p:nvSpPr>
        <p:spPr>
          <a:xfrm>
            <a:off x="1403280" y="5554800"/>
            <a:ext cx="36036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  <a:ea typeface="Calibri"/>
              </a:rPr>
              <a:t>11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7" name="Надпись 2"/>
          <p:cNvSpPr/>
          <p:nvPr/>
        </p:nvSpPr>
        <p:spPr>
          <a:xfrm>
            <a:off x="2340000" y="5084640"/>
            <a:ext cx="360360" cy="23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  <a:ea typeface="Calibri"/>
              </a:rPr>
              <a:t>30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8" name="Надпись 2"/>
          <p:cNvSpPr/>
          <p:nvPr/>
        </p:nvSpPr>
        <p:spPr>
          <a:xfrm>
            <a:off x="2700360" y="4940280"/>
            <a:ext cx="35892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  <a:ea typeface="Calibri"/>
              </a:rPr>
              <a:t>35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9" name="Надпись 2"/>
          <p:cNvSpPr/>
          <p:nvPr/>
        </p:nvSpPr>
        <p:spPr>
          <a:xfrm>
            <a:off x="2987640" y="5886360"/>
            <a:ext cx="360360" cy="23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  <a:ea typeface="Calibri"/>
              </a:rPr>
              <a:t>0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0" name="Надпись 2"/>
          <p:cNvSpPr/>
          <p:nvPr/>
        </p:nvSpPr>
        <p:spPr>
          <a:xfrm>
            <a:off x="3564000" y="1773360"/>
            <a:ext cx="43164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  <a:ea typeface="Calibri"/>
              </a:rPr>
              <a:t>161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1" name="Надпись 2"/>
          <p:cNvSpPr/>
          <p:nvPr/>
        </p:nvSpPr>
        <p:spPr>
          <a:xfrm>
            <a:off x="4316400" y="5746680"/>
            <a:ext cx="360360" cy="23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  <a:ea typeface="Calibri"/>
              </a:rPr>
              <a:t>3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2" name="Надпись 2"/>
          <p:cNvSpPr/>
          <p:nvPr/>
        </p:nvSpPr>
        <p:spPr>
          <a:xfrm>
            <a:off x="4932360" y="5486400"/>
            <a:ext cx="36036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  <a:ea typeface="Calibri"/>
              </a:rPr>
              <a:t>14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3" name="Надпись 2"/>
          <p:cNvSpPr/>
          <p:nvPr/>
        </p:nvSpPr>
        <p:spPr>
          <a:xfrm>
            <a:off x="5273640" y="5602320"/>
            <a:ext cx="36036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  <a:ea typeface="Calibri"/>
              </a:rPr>
              <a:t>10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4" name="Надпись 2"/>
          <p:cNvSpPr/>
          <p:nvPr/>
        </p:nvSpPr>
        <p:spPr>
          <a:xfrm>
            <a:off x="5580000" y="5784840"/>
            <a:ext cx="36036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  <a:ea typeface="Calibri"/>
              </a:rPr>
              <a:t>2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5" name="Надпись 2"/>
          <p:cNvSpPr/>
          <p:nvPr/>
        </p:nvSpPr>
        <p:spPr>
          <a:xfrm>
            <a:off x="3995640" y="2421000"/>
            <a:ext cx="43200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  <a:ea typeface="Calibri"/>
              </a:rPr>
              <a:t>137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6" name=""/>
          <p:cNvGraphicFramePr/>
          <p:nvPr/>
        </p:nvGraphicFramePr>
        <p:xfrm>
          <a:off x="225360" y="1916280"/>
          <a:ext cx="8739360" cy="4856040"/>
        </p:xfrm>
        <a:graphic>
          <a:graphicData uri="http://schemas.openxmlformats.org/drawingml/2006/table">
            <a:tbl>
              <a:tblPr/>
              <a:tblGrid>
                <a:gridCol w="1617840"/>
                <a:gridCol w="3271680"/>
                <a:gridCol w="3849840"/>
              </a:tblGrid>
              <a:tr h="55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редприятие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тепень травмирования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</a:tr>
              <a:tr h="303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.01.2024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О «Краснотурьинск Полиметалл»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яжелый несчастный случай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.02.2024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АО «Высокогорский горно-обогатительный комбинат»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мертельный несчастный случай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291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6.02.2024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О «Южуралзолото группа компаний»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яжелый несчастный случай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.02.2024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О «Березовский рудник»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рупповой несчастный случай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316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5.03.2024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О «Севуралбокситруда»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рупповой несчастный случай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285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1.04.2024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О «Богословское рудоуправление»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вария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259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1.04.2024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О «Богословское рудоуправление»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рупповой несчастный случай в результате аварии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.04.2024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О «Гумбейский щебеночный завод»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яжелый несчастный случай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.04.2024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О "РемЭнергоМонтаж"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мертельный несчастный случай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.04.2024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О «Севуралбокситруда»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яжелый несчастный случай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.05.2024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О «ЕВРАЗ КГОК»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вария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.05.2024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О «ЕВРАЗ КГОК»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мертельный несчастный случай в результате аварии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.05.2024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АО «Магнитогорский металлургический комбинат»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мертельный несчастный случай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.05.2024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АО «Магнитогорский металлургический комбинат»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мертельный несчастный случай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</a:tbl>
          </a:graphicData>
        </a:graphic>
      </p:graphicFrame>
      <p:pic>
        <p:nvPicPr>
          <p:cNvPr id="577" name="Рисунок 6" descr=""/>
          <p:cNvPicPr/>
          <p:nvPr/>
        </p:nvPicPr>
        <p:blipFill>
          <a:blip r:embed="rId1"/>
          <a:stretch/>
        </p:blipFill>
        <p:spPr>
          <a:xfrm>
            <a:off x="2716200" y="60480"/>
            <a:ext cx="2994120" cy="2068200"/>
          </a:xfrm>
          <a:prstGeom prst="rect">
            <a:avLst/>
          </a:prstGeom>
          <a:ln w="0">
            <a:noFill/>
          </a:ln>
        </p:spPr>
      </p:pic>
      <p:sp>
        <p:nvSpPr>
          <p:cNvPr id="578" name="TextBox 1"/>
          <p:cNvSpPr/>
          <p:nvPr/>
        </p:nvSpPr>
        <p:spPr>
          <a:xfrm>
            <a:off x="5076720" y="425520"/>
            <a:ext cx="388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оказатели аварийности и производственного травматизм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9" name="Прямая соединительная линия 3"/>
          <p:cNvSpPr/>
          <p:nvPr/>
        </p:nvSpPr>
        <p:spPr>
          <a:xfrm>
            <a:off x="5076720" y="171360"/>
            <a:ext cx="0" cy="1846440"/>
          </a:xfrm>
          <a:prstGeom prst="line">
            <a:avLst/>
          </a:prstGeom>
          <a:ln w="57240">
            <a:solidFill>
              <a:srgbClr val="002e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0" name="TextBox 10"/>
          <p:cNvSpPr/>
          <p:nvPr/>
        </p:nvSpPr>
        <p:spPr>
          <a:xfrm rot="907200">
            <a:off x="402480" y="417600"/>
            <a:ext cx="343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Т Р А В М А Т И З М 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Box 1"/>
          <p:cNvSpPr/>
          <p:nvPr/>
        </p:nvSpPr>
        <p:spPr>
          <a:xfrm>
            <a:off x="127080" y="627120"/>
            <a:ext cx="874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инамика травматизма, аварий и инцидентов на ОПО за 5 месяцев 2023 и 2024 года.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582" name="Диаграмма 13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8076960" cy="513720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4" name="Rectangle 21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5" name="Надпись 2"/>
          <p:cNvSpPr/>
          <p:nvPr/>
        </p:nvSpPr>
        <p:spPr>
          <a:xfrm>
            <a:off x="7093080" y="3645000"/>
            <a:ext cx="3222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mbria"/>
              </a:rPr>
              <a:t>2</a:t>
            </a: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6" name="Надпись 2"/>
          <p:cNvSpPr/>
          <p:nvPr/>
        </p:nvSpPr>
        <p:spPr>
          <a:xfrm>
            <a:off x="5364000" y="3605040"/>
            <a:ext cx="287640" cy="3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mbria"/>
              </a:rPr>
              <a:t>1</a:t>
            </a: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7" name="Надпись 2"/>
          <p:cNvSpPr/>
          <p:nvPr/>
        </p:nvSpPr>
        <p:spPr>
          <a:xfrm>
            <a:off x="3997440" y="2781360"/>
            <a:ext cx="4046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mbria"/>
              </a:rPr>
              <a:t>3</a:t>
            </a: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Box 3"/>
          <p:cNvSpPr/>
          <p:nvPr/>
        </p:nvSpPr>
        <p:spPr>
          <a:xfrm>
            <a:off x="324000" y="44280"/>
            <a:ext cx="8496000" cy="72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писание обстоятельств и причин аварий и несчастных случаев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арии: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01.04.2024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на  шахте Северопесчанская АО «БРУ» при подготовки к разделки негабарита на скреперном штреке горизонта -338м Верхней залежи, предварительно при нарушении монтажа электровзрывной сети произошел неконтролируемый взрыв. В результате чего было травмировано 4 человека: машинист скреперной лебедки, три проходчика, один из которых погиб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ятые меры: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тношении АО «БРУ» ш. «Северопесчанская» составлен протокол о временном запрете деятельности горизонта -338м, составлен протокол об административном приостановлении деятельности этого же горизонта и направлен в Краснотурьинский городской суд. Судом принято решение о приостановлении деятельности горинта -338м на 90 суток. Также у данной организации приостановлено действие разрешения на проведение взрывных работ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ледование продолжается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Box 3"/>
          <p:cNvSpPr/>
          <p:nvPr/>
        </p:nvSpPr>
        <p:spPr>
          <a:xfrm>
            <a:off x="324000" y="44280"/>
            <a:ext cx="8496000" cy="59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арии: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3.05.2024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в АО «ЕВРАЗ КГОК» водитель автосамосвала БелАЗ-75131 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ар. № 13 работник ООО «Ванадий-транспорт» Абдрахманов Урал Фаритович (1987г.р., стаж с 07.2023г.) выполнял по наряд-заданию перевозку горной массы от ЭКГ №58 на п/пункты №1,2 в Главном карьере. В 15:35 час. при движении груженого БелАЗа вверх по технологической дороге №8, не доезжая отм. +100 м, самовал остановился, водитель сообщил по радиосвязи  о неисправности двигателя (двигатель заглох и не заводился) и запросил техпомощи. Через 5,5 мин. после этого БелАЗ покатился по дороге вниз, наехал на бровку автодороги и упал вниз на борт карьера через 5 уступов (высота падения около 75 м.). Работник был обнаружен под завалами горной массы без признаков жизни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ледование продолжается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Box 3"/>
          <p:cNvSpPr/>
          <p:nvPr/>
        </p:nvSpPr>
        <p:spPr>
          <a:xfrm>
            <a:off x="324000" y="44280"/>
            <a:ext cx="849600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упповые несчастные случаи: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1.02.2024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на опасном производственном объекте I класса опасности «Березовский рудник» ООО «Березовский рудник» при переезде работников с горизонта 612м. на горизонт 512м. во время начала движения клети с людьми с горизонта 612м. произошло падение порожнего вагона ВГ-2,2 с горизонта 512 метров на клеть. В клети находилось 2 человека, получившие тяжелую и легкую травмы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тсутствие контроля за выполнением вагонообмена, а именно: эксплуатация клети с зафиксированными концевыми выключателями стволовых решеток, в результате чего стало возможно падение вагонетки грузовой шахтной ВГ-2,2 в ствол «Слепая-4» с последующим трамированием пострадавших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ненадлежащее осуществление производственного контроля за выполнением технологических операций на ОПО Рудник подземный «Березовский»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3"/>
          <p:cNvSpPr/>
          <p:nvPr/>
        </p:nvSpPr>
        <p:spPr>
          <a:xfrm>
            <a:off x="324000" y="44280"/>
            <a:ext cx="8496000" cy="65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5.03.2024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на опасном производственном объекте I класса опасности шахте «Кальинская» АО «СУБР» во время производства забойного цикла по панельному штреку «ЮГ» отм.-1096м. В блоке 13-й северный -1130 в 04:22 произошло сейсмическое событие, обрушение покрывающих пород блока на протяжении 7 метров по панельному штреку. В результате обрушения пострадало 2 человека. Тяжелая и смертельная травмы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ледование продолжается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01.04.2024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на  шахте Сверопесчанская АО «БРУ» при подготовки к разделки негабарита на скреперном штреке горизонта -338м Верхней залежи, предварительно при нарушении монтажа электровзрывной сети произошел неконтролируемый взрыв. В результате чего было травмировано 4 человека: машинист скреперной лебедки, три проходчика, один из которых погиб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ледование продолжается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9T05:35:47Z</dcterms:created>
  <dc:creator>ОПО</dc:creator>
  <dc:description/>
  <dc:language>en-US</dc:language>
  <cp:lastModifiedBy>Пищальников Иван Игоревич</cp:lastModifiedBy>
  <cp:lastPrinted>2024-01-31T13:25:05Z</cp:lastPrinted>
  <dcterms:modified xsi:type="dcterms:W3CDTF">2024-06-07T06:39:22Z</dcterms:modified>
  <cp:revision>677</cp:revision>
  <dc:subject/>
  <dc:title>Презентация PowerPoint</dc:title>
</cp:coreProperties>
</file>